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4C5EE-2E35-47BB-B506-64B1D1FB0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41A46-CCC3-4069-B034-4BC511F08AB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06DEE-9132-41CB-930B-012A22E193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DAEE0-5F11-4BBA-975D-7A5242B27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3B7AD-5DE0-4E5B-8A1D-890F03B0CCE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6A2B2A-4A87-49DA-BD2C-5961BFD0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F41DFD-F4E8-499F-A602-DA945B66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F34ED9-8B89-485D-B053-81D9EB8B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A4D7EF-21CF-4D4A-B11C-D759FD2D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258DC6-8F53-4DE1-940D-BEAD948A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D3F72C-5971-4A9F-A162-9E6743B9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3B5D6B-9417-4963-BE96-447276AD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018AD3-8CC2-4455-B42B-42F3F0CF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34C65C-E169-4DAB-928B-8988BD6F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D3FD84-AE6F-4BC8-9393-5C3606D6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9704-484A-46E9-94DB-275B58EF183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FF645B-9F47-4B04-A439-0BD3C546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C5CF69-22AA-46F6-BB6A-DBF931ED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E723A8-1D59-4AC5-9319-E30D52C8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F0E2D0-9187-4E4C-BE0C-3B3D8794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C06238-3379-481C-9F0F-C2B20419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EE008C-DD36-4F84-B89A-67549C28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3BDEB0-62A5-41AC-83AC-37D006BA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E92BBF-6D04-46B1-9DC9-B27ED964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8A46D9-9F31-4832-9287-AB544C6D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A32334-5B36-4F7F-9F6F-86B1562B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B0187-6BF9-4B67-90FD-4EA7451A933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227ADF-C8F5-4717-881A-0521659C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81E3DC-A713-42C5-BAC9-FC3E72FE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255682-BA3D-484B-995E-2C52463A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53BD55-043C-4FF3-9967-886DF9D2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56CD0F-B393-4737-87D5-69AE9725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E2852B-C87B-4837-9DAB-C0D275D2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E1DA5D-4D5E-4A84-B549-5FFDB491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93CDC6-8F65-4A4F-80BE-2B8468C0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CC1CF5-7308-41BA-A2D8-87A845EB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4A3481-7F41-4876-9590-56DA6414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C2F91-CA23-4747-935A-B0BD93361F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56F12D-385C-4D57-806E-ABC10870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E8B1ED-0960-477D-B53B-3759CEBB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489D8C-F823-45EC-B4B4-71113A32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6643C4-A5EB-47E6-A764-E7BB304B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C3059C-522A-4433-A634-221FFF56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F35EF6-B293-4230-B61E-9C8D28AF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7180D5-0D97-4BAD-944F-770A9166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FD3214-7D3A-482B-A06F-612F0400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95122B-71DD-48D8-BC45-853D8C86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386B6E-63C5-4DDA-A293-257E8226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17F62-4D75-41BE-804B-71E0B6D1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40E0B5-5CBC-4036-A4E9-21848FF5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2CFC82-2FEA-41CB-BE7B-FD5AEF13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4F3931-4686-4995-8BB6-0F6701E9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1F4F7A-FB1C-4C1E-B0F4-A2D1F01C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AEAD77-41F3-4057-995C-893F26E7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A2D6A-7E3A-46F0-BDBE-9700CDC8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3A2BE-B360-4B04-9C1E-C92B9CF7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89DE0-7C9D-40A5-B32E-85B1E7C6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E981A-B6E7-420B-9E9D-A5C8ADA3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E5A0F-301C-4249-B5E8-7F6ED1FE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1FA66-0685-4052-BA3A-D7C570B8D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DDC22-9C57-402F-A288-D3535DCE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8B6C0-338B-4972-A03A-09A95C26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4BBEB-32D3-4B02-8485-68BFDC9C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2952B-CB7F-402F-AE3D-026CBBF9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12593-B61D-4119-9515-0C88093429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A54FD-113A-49F0-A121-35B8DA3D92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BB33F-3FF3-45B5-879C-DA5311D21B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8A02D-E3FB-4BF8-848D-4562966452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98E1F-C74A-45F2-A184-2EA07A3D3D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C4BAD-C733-4981-99CE-7C9048EBBE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E6A3A-0AB1-437C-9150-786E13E5BD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8AC73-D118-4BF3-A704-BC468AA6FB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8EB3C-3D91-4CD5-9761-4A947AC602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1DA71-186E-40EF-9B8E-0478CB3F86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4916D-AFEE-4DDA-AAB1-217075CA46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5A028-1BC6-493D-A1A4-429F970AD0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48534-55C6-40DF-8CB5-E369DFB10F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EB8D6-DA9D-448F-A9CE-B6D0D61027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468FB-616F-4A34-A697-2F65A074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A876F-8541-46FE-9C0E-7A376908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D4BAE-E661-4062-AB17-B2543B97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0DBD-AA47-4DEA-9DBE-0C1CABB471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647E7-48F6-41B3-9DF7-C95C4231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2F606-ECAB-493C-8957-A9D6B15E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F16B9-DEBC-42ED-B18B-C6D4A116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523FE-D13A-47FD-AE8A-5A7B4FC8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1D282-E43D-4C74-BE60-A770F065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E94D6-BAE7-46B4-A902-14486062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544A2-62CC-4420-8F54-9AB1890F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B6FA3-523C-44BC-AE54-F1A165E2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8B70-D2D4-4C79-9534-ACBD1647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ACEC-6FC2-4470-ADFF-A41A23D4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EE7BD-7F64-4718-BE5A-97AB1CFE10C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A72F6-0C82-40A1-AC90-19E85110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FDA44-3CD0-481A-935A-9F16985C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EE999-FA51-4620-85F5-CC90AE48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9C3CD-6376-452F-8B4E-90BF6D9B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2D886-E51D-48FA-A71F-1B998DA6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03789-BFDA-4E68-935A-EA92BA25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0B579-FA42-42C9-8796-70179D8E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5D5CF-C7A4-4E9B-BA9B-6B6757C1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3DCD0-8000-4A4F-889A-05A23E58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B95B7-5456-4BC7-89C8-A51EC551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A263F-C965-4595-8C9E-EFF2E799744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D6BA4-538D-401E-A04F-7A3EEBA7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1683C-8856-4144-BC03-5F4FB8E6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6C0EB-52A8-4882-8847-5E0EBBE0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F6467-DE33-4045-8557-98BF0754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C883E-88E5-409C-BE0D-EB8E0F07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4FAD3-D015-45CE-9624-48982F6C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5F76B-F36D-435B-9034-7415B6B0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82D77-382C-4233-86F0-5DC83C71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02E1A-8050-4F47-842C-391F958D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29BDE-AB29-47E6-9CD3-7140E969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C3241-FC31-46D6-8236-8A498F9DA02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BCA5D-40D4-4444-9055-E2F52DC8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3F88B-A305-42BE-BBCC-9C73EF17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97065-CE49-417D-8892-D76D9492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8D24CF-3E36-4CF5-9404-EAAF63F05E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23BC01-FF5F-4E72-B7B4-32E8870C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10C9C-6CE0-4AF3-8B0B-74A00EB1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26D8BD-789C-4B48-BD3C-DD4BA5F1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3C81A6-783A-4F6E-8D3D-FF4223F8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E978C-090D-42DE-9EC9-AD946F88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88CB94-DEBD-45A2-AB38-352C40AD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D3E0-2D97-4D03-BAF2-7EAAD5CAC29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88CAC-6AB8-4C32-858A-DDF91C89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ABA81-92C8-4FA4-AA99-4198986B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55E4A-7E14-4418-879D-CF2872D0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F0C72C-8960-40F8-81B9-A7875E88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4E6075-10ED-4D81-B153-8218CAEA50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5E66EB-96C6-463C-A84D-DE3D3243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840EB7-E22D-4C24-B624-49782671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17EB40-360A-4A13-9D42-4427E506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051837-00EF-4AB5-B1AA-AC9AB8A5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9E0AB3-7BF1-47F3-9599-8051C3B5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881B9-3A35-4EFC-91D5-98B13052328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81AFE5-E597-49F9-84A2-5928D8E9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531974-78AB-4E08-A8CC-CD593DF9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B0337-0B9A-4A46-9C9F-2DD8EA81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85564A-9B2A-4F3E-8602-5B13DAF2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C9E2D7-DFFE-4CC7-9BE1-523A8699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D670A1-33EE-4C0B-94D5-F37157AF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3B7BB8-BC05-461A-BB34-F650546C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9A611B-05A7-4F75-A5E9-50DE9554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9D796E-267E-466A-9716-43DA4DB7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BD16FE-88E9-49B5-A6A1-55A205E5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hyperlink" Target="http://www.ibermatica.com/ibermatica" TargetMode="Externa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hyperlink" Target="http://www.ibermatica.com/ibermatica" TargetMode="Externa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9EA0C-34B3-4D64-8870-1AC77AC8327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7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13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17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530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536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540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54D17-F0C6-4183-82F4-F2B0D522B6BE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25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6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6683B-B5B1-4E5E-B520-4215E3294BB4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587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593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597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CD1C7-D221-4F16-B2DB-952E35AF6B74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28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sldNum" idx="29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96A7F-D7F9-4F59-9615-4D5A5871C46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644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650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654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71C3B-A472-4B44-8830-67125BA26CD4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ftr" idx="31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32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5BDF0-D1D5-4A72-9645-00659EFAE45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59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65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69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1905120" y="64008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D971D-68A0-4308-B34D-0AC03E9237E0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4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BD1B6-D194-4866-8B12-5FEEC8F4EE53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15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121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12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0451C-C455-442E-97A8-EDBAB0C1472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2057400" y="228600"/>
            <a:ext cx="2089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ibermatica.com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linea"/>
          <p:cNvPicPr/>
          <p:nvPr/>
        </p:nvPicPr>
        <p:blipFill>
          <a:blip r:embed="rId11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31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2033640" y="112680"/>
            <a:ext cx="33004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3" descr=""/>
          <p:cNvPicPr/>
          <p:nvPr/>
        </p:nvPicPr>
        <p:blipFill>
          <a:blip r:embed="rId12"/>
          <a:stretch/>
        </p:blipFill>
        <p:spPr>
          <a:xfrm>
            <a:off x="0" y="6438960"/>
            <a:ext cx="1835280" cy="419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Num" idx="5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C4773-4AF9-4725-BDBB-1425267E845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6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80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186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190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262AE-D5DD-423F-B099-CB45FDDD7ED3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4" descr="ibermatica.com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linea"/>
          <p:cNvPicPr/>
          <p:nvPr/>
        </p:nvPicPr>
        <p:blipFill>
          <a:blip r:embed="rId11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96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4" descr=""/>
          <p:cNvPicPr/>
          <p:nvPr/>
        </p:nvPicPr>
        <p:blipFill>
          <a:blip r:embed="rId12"/>
          <a:stretch/>
        </p:blipFill>
        <p:spPr>
          <a:xfrm>
            <a:off x="0" y="6438960"/>
            <a:ext cx="1835280" cy="4190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EC605-F850-4C81-BC4F-28B8B586D6DE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8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9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019AA-01AE-48CC-8101-9A71361999E3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245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251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25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F6F17-3298-4FC1-BFEA-24268A66A91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C5A94-356E-4373-BEE1-C8564BBBC40C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302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308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312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B9CF4-D08D-4199-8ED4-5DC6CFC869FF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4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5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0C1FD-3964-439A-B1BD-BE0BD13F5D54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359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365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369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5986E-8FF0-4647-80B4-A092006D5B92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Num" idx="17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19CC3-165D-4A74-A7C1-3AD33D8F4FD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415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421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42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AA81B-3217-421F-9A49-72B10EF88B74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9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0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1283A-B8E6-42B2-B4D1-B43FB7F1137F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473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479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483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4DF12-1292-4388-8BF3-D20255E69D10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22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sldNum" idx="23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EA75B-B95F-4ED1-AF1B-793AC2C3F33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gaupload.com/?d=4XP6DWCZ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hyperlink" Target="http://camtasia-studio.softonic.com/" TargetMode="External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rientadoresviu.wikispaces.com/OrientaTe+Videotutoriales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400" spc="-1" strike="noStrike">
                <a:solidFill>
                  <a:srgbClr val="984807"/>
                </a:solidFill>
                <a:latin typeface="Arial"/>
                <a:ea typeface="Arial"/>
              </a:rPr>
              <a:t>¿Qué aportan las NTIC a la Educació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304560" y="3374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898989"/>
                </a:solidFill>
                <a:latin typeface="Arial"/>
              </a:rPr>
              <a:t>Presentación de herramientas Digitales para la Educ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898989"/>
                </a:solidFill>
                <a:latin typeface="Arial"/>
              </a:rPr>
              <a:t>Actividad Bloque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2052720"/>
          </a:xfrm>
          <a:prstGeom prst="rect">
            <a:avLst/>
          </a:prstGeom>
          <a:ln w="0">
            <a:noFill/>
          </a:ln>
        </p:spPr>
      </p:pic>
      <p:sp>
        <p:nvSpPr>
          <p:cNvPr id="707" name="Subtitle 2"/>
          <p:cNvSpPr/>
          <p:nvPr/>
        </p:nvSpPr>
        <p:spPr>
          <a:xfrm>
            <a:off x="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Arial"/>
                <a:ea typeface="Arial"/>
              </a:rPr>
              <a:t>Trabajo Elaborado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Arial"/>
                <a:ea typeface="Arial"/>
              </a:rPr>
              <a:t>Amalia Revuelta Cand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7" descr="Nuevo Logo.jpg"/>
          <p:cNvPicPr/>
          <p:nvPr/>
        </p:nvPicPr>
        <p:blipFill>
          <a:blip r:embed="rId2"/>
          <a:stretch/>
        </p:blipFill>
        <p:spPr>
          <a:xfrm>
            <a:off x="6261120" y="4260960"/>
            <a:ext cx="219708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2590560" y="5785920"/>
            <a:ext cx="60958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http://www.eduteka.org/AprendizajeHerramientasDigitales.ph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8"/>
          <p:cNvSpPr/>
          <p:nvPr/>
        </p:nvSpPr>
        <p:spPr>
          <a:xfrm>
            <a:off x="76320" y="3352680"/>
            <a:ext cx="236196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2" descr="linea"/>
          <p:cNvPicPr/>
          <p:nvPr/>
        </p:nvPicPr>
        <p:blipFill>
          <a:blip r:embed="rId1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MIND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2" descr="SAT 4 copia"/>
          <p:cNvPicPr/>
          <p:nvPr/>
        </p:nvPicPr>
        <p:blipFill>
          <a:blip r:embed="rId2"/>
          <a:stretch/>
        </p:blipFill>
        <p:spPr>
          <a:xfrm>
            <a:off x="0" y="692280"/>
            <a:ext cx="2584440" cy="2808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9" descr="flecha"/>
          <p:cNvPicPr/>
          <p:nvPr/>
        </p:nvPicPr>
        <p:blipFill>
          <a:blip r:embed="rId3"/>
          <a:stretch/>
        </p:blipFill>
        <p:spPr>
          <a:xfrm>
            <a:off x="76320" y="5229360"/>
            <a:ext cx="247680" cy="257040"/>
          </a:xfrm>
          <a:prstGeom prst="rect">
            <a:avLst/>
          </a:prstGeom>
          <a:ln w="0">
            <a:noFill/>
          </a:ln>
        </p:spPr>
      </p:pic>
      <p:sp>
        <p:nvSpPr>
          <p:cNvPr id="781" name="Text Placeholder 1"/>
          <p:cNvSpPr/>
          <p:nvPr/>
        </p:nvSpPr>
        <p:spPr>
          <a:xfrm>
            <a:off x="2743200" y="2038320"/>
            <a:ext cx="609588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http://orientadoresviu.wikispaces.com/OrientaTe+Videotu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youtube.com/watch?v=UnqR60B_lNI&amp;feature=player_embed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0" y="83808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336699"/>
                </a:solidFill>
                <a:latin typeface="Arial"/>
              </a:rPr>
              <a:t>¡Felicidades por tu Participación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8"/>
          <p:cNvGrpSpPr/>
          <p:nvPr/>
        </p:nvGrpSpPr>
        <p:grpSpPr>
          <a:xfrm>
            <a:off x="1447920" y="1600200"/>
            <a:ext cx="6476760" cy="5029200"/>
            <a:chOff x="1447920" y="1600200"/>
            <a:chExt cx="6476760" cy="5029200"/>
          </a:xfrm>
        </p:grpSpPr>
        <p:pic>
          <p:nvPicPr>
            <p:cNvPr id="784" name="Picture 6" descr=""/>
            <p:cNvPicPr/>
            <p:nvPr/>
          </p:nvPicPr>
          <p:blipFill>
            <a:blip r:embed="rId1"/>
            <a:stretch/>
          </p:blipFill>
          <p:spPr>
            <a:xfrm>
              <a:off x="1447920" y="1600200"/>
              <a:ext cx="647676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TextBox 7"/>
            <p:cNvSpPr/>
            <p:nvPr/>
          </p:nvSpPr>
          <p:spPr>
            <a:xfrm>
              <a:off x="2044800" y="1752480"/>
              <a:ext cx="4203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¿Sabes qué creo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Box 8"/>
            <p:cNvSpPr/>
            <p:nvPr/>
          </p:nvSpPr>
          <p:spPr>
            <a:xfrm>
              <a:off x="1905120" y="2065320"/>
              <a:ext cx="50292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QUE TANTA HERRAMIENTA TIC, TANTA TECNOLOGÍA Y TANTA WIKI,.. VA A ACABAR CON M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9"/>
            <p:cNvSpPr/>
            <p:nvPr/>
          </p:nvSpPr>
          <p:spPr>
            <a:xfrm>
              <a:off x="2044800" y="2819160"/>
              <a:ext cx="5499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FAMILIA !!!!!!!!!!!!!!!!!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0"/>
            <p:cNvSpPr/>
            <p:nvPr/>
          </p:nvSpPr>
          <p:spPr>
            <a:xfrm>
              <a:off x="4419720" y="4038480"/>
              <a:ext cx="3124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CON MI FACEBOOK DE LA VI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0" descr="Pizarra 1.jpg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10080"/>
          </a:xfrm>
          <a:prstGeom prst="rect">
            <a:avLst/>
          </a:prstGeom>
          <a:ln w="0">
            <a:noFill/>
          </a:ln>
        </p:spPr>
      </p:pic>
      <p:sp>
        <p:nvSpPr>
          <p:cNvPr id="710" name="Footer Placeholder 4"/>
          <p:cNvSpPr/>
          <p:nvPr/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61760" y="1645920"/>
            <a:ext cx="609588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ocer y utilizar las herramientas tecnológicas más comunes y sus posibilidades de aplicación en el contexto educativo adquiriendo una postura personal rigurosa, crítica e innovadora que enriquezca su experiencia y práctica educ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iciarse en el diseño y producción de contenidos mediante software y webware como recurso form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825880" y="866520"/>
            <a:ext cx="2438280" cy="533160"/>
          </a:xfrm>
          <a:prstGeom prst="rect">
            <a:avLst/>
          </a:prstGeom>
          <a:solidFill>
            <a:srgbClr val="376092">
              <a:alpha val="53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f2f2f2"/>
                </a:solidFill>
                <a:latin typeface="Calibri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457200" y="503712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tiempo es uno de los bienes más preciosos y hay que ser capaz de aprovecharlo... Cualquier sistema que nos ayude a optimizarlo, y más aún si requiere poco esfuerzo, hay que considerarlo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Oval 13"/>
          <p:cNvSpPr/>
          <p:nvPr/>
        </p:nvSpPr>
        <p:spPr>
          <a:xfrm>
            <a:off x="4052880" y="2182680"/>
            <a:ext cx="990720" cy="990720"/>
          </a:xfrm>
          <a:prstGeom prst="ellipse">
            <a:avLst/>
          </a:prstGeom>
          <a:noFill/>
          <a:ln w="76320">
            <a:solidFill>
              <a:srgbClr val="336699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5f5f5f"/>
                </a:solidFill>
                <a:latin typeface="Arial Rounded MT Bold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4"/>
          <p:cNvSpPr/>
          <p:nvPr/>
        </p:nvSpPr>
        <p:spPr>
          <a:xfrm>
            <a:off x="2652840" y="1103400"/>
            <a:ext cx="5043240" cy="4968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51080" indent="-1351080" algn="r">
              <a:buClr>
                <a:srgbClr val="ffff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Índice de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15"/>
          <p:cNvSpPr/>
          <p:nvPr/>
        </p:nvSpPr>
        <p:spPr>
          <a:xfrm>
            <a:off x="1295280" y="2133720"/>
            <a:ext cx="990720" cy="990360"/>
          </a:xfrm>
          <a:prstGeom prst="ellipse">
            <a:avLst/>
          </a:prstGeom>
          <a:noFill/>
          <a:ln w="76320">
            <a:solidFill>
              <a:srgbClr val="984807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5f5f5f"/>
                </a:solidFill>
                <a:latin typeface="Arial Rounded MT Bold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16"/>
          <p:cNvSpPr/>
          <p:nvPr/>
        </p:nvSpPr>
        <p:spPr>
          <a:xfrm>
            <a:off x="6865920" y="2195640"/>
            <a:ext cx="990720" cy="988920"/>
          </a:xfrm>
          <a:prstGeom prst="ellipse">
            <a:avLst/>
          </a:prstGeom>
          <a:noFill/>
          <a:ln w="76320">
            <a:solidFill>
              <a:srgbClr val="336699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5f5f5f"/>
                </a:solidFill>
                <a:latin typeface="Arial Rounded MT Bold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8"/>
          <p:cNvSpPr/>
          <p:nvPr/>
        </p:nvSpPr>
        <p:spPr>
          <a:xfrm>
            <a:off x="554040" y="3735360"/>
            <a:ext cx="241776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9"/>
          <p:cNvSpPr/>
          <p:nvPr/>
        </p:nvSpPr>
        <p:spPr>
          <a:xfrm>
            <a:off x="625320" y="3176640"/>
            <a:ext cx="2346480" cy="49860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Uso educativ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Herramientas Digi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0"/>
          <p:cNvSpPr/>
          <p:nvPr/>
        </p:nvSpPr>
        <p:spPr>
          <a:xfrm>
            <a:off x="3483000" y="3220920"/>
            <a:ext cx="2232000" cy="4572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Herramien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CAMT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1"/>
          <p:cNvSpPr/>
          <p:nvPr/>
        </p:nvSpPr>
        <p:spPr>
          <a:xfrm>
            <a:off x="6256440" y="3208320"/>
            <a:ext cx="2286000" cy="4572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Herramien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Mind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3"/>
          <p:cNvSpPr/>
          <p:nvPr/>
        </p:nvSpPr>
        <p:spPr>
          <a:xfrm>
            <a:off x="3483000" y="3701880"/>
            <a:ext cx="2232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 Presentacion de la Herrami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2. Uso y aplicación en la educ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3. Enlace al Video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3"/>
          <p:cNvSpPr/>
          <p:nvPr/>
        </p:nvSpPr>
        <p:spPr>
          <a:xfrm>
            <a:off x="6324480" y="3733920"/>
            <a:ext cx="221796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 Presentacion de la Herrami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2. Uso y aplicación en la educ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3. Enlace al Video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2590560" y="1722240"/>
            <a:ext cx="609588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herramientas informáticas cumplen ciertas funciones en los procesos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ooter Placeholder 4"/>
          <p:cNvSpPr/>
          <p:nvPr/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8"/>
          <p:cNvSpPr/>
          <p:nvPr/>
        </p:nvSpPr>
        <p:spPr>
          <a:xfrm>
            <a:off x="76320" y="3352680"/>
            <a:ext cx="23288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2" descr="SAT 2 copia"/>
          <p:cNvPicPr/>
          <p:nvPr/>
        </p:nvPicPr>
        <p:blipFill>
          <a:blip r:embed="rId1"/>
          <a:stretch/>
        </p:blipFill>
        <p:spPr>
          <a:xfrm>
            <a:off x="19080" y="838080"/>
            <a:ext cx="2386080" cy="2592360"/>
          </a:xfrm>
          <a:prstGeom prst="rect">
            <a:avLst/>
          </a:prstGeom>
          <a:ln w="0">
            <a:noFill/>
          </a:ln>
        </p:spPr>
      </p:pic>
      <p:grpSp>
        <p:nvGrpSpPr>
          <p:cNvPr id="728" name="Freeform 8"/>
          <p:cNvGrpSpPr/>
          <p:nvPr/>
        </p:nvGrpSpPr>
        <p:grpSpPr>
          <a:xfrm>
            <a:off x="2548080" y="3200400"/>
            <a:ext cx="2517480" cy="2136600"/>
            <a:chOff x="2548080" y="3200400"/>
            <a:chExt cx="2517480" cy="2136600"/>
          </a:xfrm>
        </p:grpSpPr>
        <p:pic>
          <p:nvPicPr>
            <p:cNvPr id="729" name="Freeform 8" descr=""/>
            <p:cNvPicPr/>
            <p:nvPr/>
          </p:nvPicPr>
          <p:blipFill>
            <a:blip r:embed="rId2"/>
            <a:stretch/>
          </p:blipFill>
          <p:spPr>
            <a:xfrm>
              <a:off x="2548080" y="3200400"/>
              <a:ext cx="251748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2666880" y="3322800"/>
              <a:ext cx="2286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izar qué queremos Enseñar con la herramienta: Aprender, Investigar, Colaborar, Tomar Decisiones, etc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9"/>
          <p:cNvSpPr/>
          <p:nvPr/>
        </p:nvSpPr>
        <p:spPr>
          <a:xfrm>
            <a:off x="6172200" y="304812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Una vez identificado lo que queremos enseñar debemos seleccionar, dentro del grupo de herramientas y aplicaciones disponibles, cuál se ajusta mejor al contexto de 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us 11"/>
          <p:cNvSpPr/>
          <p:nvPr/>
        </p:nvSpPr>
        <p:spPr>
          <a:xfrm>
            <a:off x="4800600" y="3352680"/>
            <a:ext cx="1600200" cy="164160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o educativo de Herramient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2" descr="linea"/>
          <p:cNvPicPr/>
          <p:nvPr/>
        </p:nvPicPr>
        <p:blipFill>
          <a:blip r:embed="rId3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9" descr="flecha"/>
          <p:cNvPicPr/>
          <p:nvPr/>
        </p:nvPicPr>
        <p:blipFill>
          <a:blip r:embed="rId4"/>
          <a:stretch/>
        </p:blipFill>
        <p:spPr>
          <a:xfrm>
            <a:off x="76320" y="4848120"/>
            <a:ext cx="2476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1904760" y="406224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megaupload.com/?d=4XP6DWCZ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2" descr="SAT 2 copia"/>
          <p:cNvPicPr/>
          <p:nvPr/>
        </p:nvPicPr>
        <p:blipFill>
          <a:blip r:embed="rId2"/>
          <a:stretch/>
        </p:blipFill>
        <p:spPr>
          <a:xfrm>
            <a:off x="19080" y="692280"/>
            <a:ext cx="2386080" cy="259236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18"/>
          <p:cNvSpPr/>
          <p:nvPr/>
        </p:nvSpPr>
        <p:spPr>
          <a:xfrm>
            <a:off x="76320" y="3352680"/>
            <a:ext cx="23288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" descr="linea"/>
          <p:cNvPicPr/>
          <p:nvPr/>
        </p:nvPicPr>
        <p:blipFill>
          <a:blip r:embed="rId3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9" descr="flecha"/>
          <p:cNvPicPr/>
          <p:nvPr/>
        </p:nvPicPr>
        <p:blipFill>
          <a:blip r:embed="rId4"/>
          <a:stretch/>
        </p:blipFill>
        <p:spPr>
          <a:xfrm>
            <a:off x="76320" y="5305320"/>
            <a:ext cx="247680" cy="2574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"/>
          <p:cNvPicPr/>
          <p:nvPr/>
        </p:nvPicPr>
        <p:blipFill>
          <a:blip r:embed="rId5"/>
          <a:stretch/>
        </p:blipFill>
        <p:spPr>
          <a:xfrm>
            <a:off x="6019920" y="2100240"/>
            <a:ext cx="2827080" cy="186228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7"/>
          <p:cNvSpPr/>
          <p:nvPr/>
        </p:nvSpPr>
        <p:spPr>
          <a:xfrm>
            <a:off x="2666880" y="23922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mtasia 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quete de utilidades con las que registrar y editar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8"/>
          <p:cNvSpPr/>
          <p:nvPr/>
        </p:nvSpPr>
        <p:spPr>
          <a:xfrm>
            <a:off x="2590920" y="477828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ind Manag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stiona tus proyectos con mapas organizativos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9" descr=""/>
          <p:cNvPicPr/>
          <p:nvPr/>
        </p:nvPicPr>
        <p:blipFill>
          <a:blip r:embed="rId6"/>
          <a:stretch/>
        </p:blipFill>
        <p:spPr>
          <a:xfrm>
            <a:off x="6324480" y="4541760"/>
            <a:ext cx="2362320" cy="204156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12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o educativo de Herramient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1"/>
          <p:cNvSpPr/>
          <p:nvPr/>
        </p:nvSpPr>
        <p:spPr>
          <a:xfrm>
            <a:off x="2690280" y="1655640"/>
            <a:ext cx="49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camtasia-studio.softonic.co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2590920" y="1722600"/>
            <a:ext cx="632448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herramienta permite grabar cualquier ac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xplicar el funcionamiento de un programa informático. Una manera fácil, pues, de crear videotu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compartir un problema tecnológico y explicárselo a sopo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2" descr="SAT 3 copia"/>
          <p:cNvPicPr/>
          <p:nvPr/>
        </p:nvPicPr>
        <p:blipFill>
          <a:blip r:embed="rId1"/>
          <a:stretch/>
        </p:blipFill>
        <p:spPr>
          <a:xfrm>
            <a:off x="0" y="838080"/>
            <a:ext cx="2301840" cy="2502000"/>
          </a:xfrm>
          <a:prstGeom prst="rect">
            <a:avLst/>
          </a:prstGeom>
          <a:ln w="0">
            <a:noFill/>
          </a:ln>
        </p:spPr>
      </p:pic>
      <p:sp>
        <p:nvSpPr>
          <p:cNvPr id="749" name="Rectangle 18"/>
          <p:cNvSpPr/>
          <p:nvPr/>
        </p:nvSpPr>
        <p:spPr>
          <a:xfrm>
            <a:off x="76320" y="3352680"/>
            <a:ext cx="222552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 CAMT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2" descr="linea"/>
          <p:cNvPicPr/>
          <p:nvPr/>
        </p:nvPicPr>
        <p:blipFill>
          <a:blip r:embed="rId2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9" descr="flecha"/>
          <p:cNvPicPr/>
          <p:nvPr/>
        </p:nvPicPr>
        <p:blipFill>
          <a:blip r:embed="rId3"/>
          <a:stretch/>
        </p:blipFill>
        <p:spPr>
          <a:xfrm>
            <a:off x="76320" y="4572000"/>
            <a:ext cx="247680" cy="257040"/>
          </a:xfrm>
          <a:prstGeom prst="rect">
            <a:avLst/>
          </a:prstGeom>
          <a:ln w="0">
            <a:noFill/>
          </a:ln>
        </p:spPr>
      </p:pic>
      <p:sp>
        <p:nvSpPr>
          <p:cNvPr id="752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CAMT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9"/>
          <p:cNvSpPr/>
          <p:nvPr/>
        </p:nvSpPr>
        <p:spPr>
          <a:xfrm>
            <a:off x="2438280" y="5626080"/>
            <a:ext cx="65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ernández-Quijada, David; Bonet, Montse (2009)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Camtasia Studio, creación de animaciones multimedia educativas. @tic. Revista d’innovació educativa. (nº 3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4"/>
          <a:stretch/>
        </p:blipFill>
        <p:spPr>
          <a:xfrm>
            <a:off x="7074000" y="6330960"/>
            <a:ext cx="16128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2590560" y="2636640"/>
            <a:ext cx="60958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rientadoresviu.wikispaces.com/OrientaTe+Videotu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tp://www.youtube.com/watch#!v=WwbrygX_Yq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2" descr="SAT 3 copia"/>
          <p:cNvPicPr/>
          <p:nvPr/>
        </p:nvPicPr>
        <p:blipFill>
          <a:blip r:embed="rId2"/>
          <a:stretch/>
        </p:blipFill>
        <p:spPr>
          <a:xfrm>
            <a:off x="0" y="838080"/>
            <a:ext cx="2301840" cy="250200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18"/>
          <p:cNvSpPr/>
          <p:nvPr/>
        </p:nvSpPr>
        <p:spPr>
          <a:xfrm>
            <a:off x="76320" y="3352680"/>
            <a:ext cx="222552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2" descr="linea"/>
          <p:cNvPicPr/>
          <p:nvPr/>
        </p:nvPicPr>
        <p:blipFill>
          <a:blip r:embed="rId3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5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CAMT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19" descr="flecha"/>
          <p:cNvPicPr/>
          <p:nvPr/>
        </p:nvPicPr>
        <p:blipFill>
          <a:blip r:embed="rId4"/>
          <a:stretch/>
        </p:blipFill>
        <p:spPr>
          <a:xfrm>
            <a:off x="76320" y="5305320"/>
            <a:ext cx="2476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2590560" y="1722240"/>
            <a:ext cx="609588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rramientas interactivas de razonamiento que ayuda a los estudiantes a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2" descr="SAT 4 copia"/>
          <p:cNvPicPr/>
          <p:nvPr/>
        </p:nvPicPr>
        <p:blipFill>
          <a:blip r:embed="rId1"/>
          <a:stretch/>
        </p:blipFill>
        <p:spPr>
          <a:xfrm>
            <a:off x="0" y="692280"/>
            <a:ext cx="2584440" cy="280800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18"/>
          <p:cNvSpPr/>
          <p:nvPr/>
        </p:nvSpPr>
        <p:spPr>
          <a:xfrm>
            <a:off x="76320" y="3352680"/>
            <a:ext cx="220968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2" descr="linea"/>
          <p:cNvPicPr/>
          <p:nvPr/>
        </p:nvPicPr>
        <p:blipFill>
          <a:blip r:embed="rId2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MIND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19" descr="flecha"/>
          <p:cNvPicPr/>
          <p:nvPr/>
        </p:nvPicPr>
        <p:blipFill>
          <a:blip r:embed="rId3"/>
          <a:stretch/>
        </p:blipFill>
        <p:spPr>
          <a:xfrm>
            <a:off x="76320" y="4848120"/>
            <a:ext cx="247680" cy="25740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8"/>
          <p:cNvSpPr/>
          <p:nvPr/>
        </p:nvSpPr>
        <p:spPr>
          <a:xfrm>
            <a:off x="2590920" y="260208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denar y prioriza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lementos de una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trui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rgumentos bien razo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ganiz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os factores que influyen o impactan un problema o situación y a comprender cómo esos factores interactúan unos con otros en relaciones de causa-efec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ualiz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ediante “mapas “ment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8"/>
          <p:cNvSpPr/>
          <p:nvPr/>
        </p:nvSpPr>
        <p:spPr>
          <a:xfrm>
            <a:off x="76320" y="3352680"/>
            <a:ext cx="236196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2" descr="linea"/>
          <p:cNvPicPr/>
          <p:nvPr/>
        </p:nvPicPr>
        <p:blipFill>
          <a:blip r:embed="rId1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MIND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SAT 4 copia"/>
          <p:cNvPicPr/>
          <p:nvPr/>
        </p:nvPicPr>
        <p:blipFill>
          <a:blip r:embed="rId2"/>
          <a:stretch/>
        </p:blipFill>
        <p:spPr>
          <a:xfrm>
            <a:off x="0" y="692280"/>
            <a:ext cx="2584440" cy="2808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9" descr="flecha"/>
          <p:cNvPicPr/>
          <p:nvPr/>
        </p:nvPicPr>
        <p:blipFill>
          <a:blip r:embed="rId3"/>
          <a:stretch/>
        </p:blipFill>
        <p:spPr>
          <a:xfrm>
            <a:off x="76320" y="5229360"/>
            <a:ext cx="247680" cy="25704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10"/>
          <p:cNvSpPr/>
          <p:nvPr/>
        </p:nvSpPr>
        <p:spPr>
          <a:xfrm>
            <a:off x="2584440" y="1477800"/>
            <a:ext cx="655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imagen vale más que mil palabras y visibilizar pensamientos e ideas para compartirlos, es el primer paso construir conoc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12" descr="taconfta.gif"/>
          <p:cNvPicPr/>
          <p:nvPr/>
        </p:nvPicPr>
        <p:blipFill>
          <a:blip r:embed="rId4"/>
          <a:stretch/>
        </p:blipFill>
        <p:spPr>
          <a:xfrm>
            <a:off x="2448000" y="2971800"/>
            <a:ext cx="6543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6:13:13Z</dcterms:created>
  <dc:creator>Coaching PD</dc:creator>
  <dc:description/>
  <dc:language>en-US</dc:language>
  <cp:lastModifiedBy>Coaching PD</cp:lastModifiedBy>
  <dcterms:modified xsi:type="dcterms:W3CDTF">2010-10-20T16:35:42Z</dcterms:modified>
  <cp:revision>95</cp:revision>
  <dc:subject/>
  <dc:title>¿Qué aportan las NTIC a la Educación?</dc:title>
</cp:coreProperties>
</file>