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5B58E-6388-4DF9-A7E0-3640C2AB1B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68BCB-9230-432A-8663-E5FF2E6588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998B2-C324-4D26-9FF5-81CDE43661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F0CE4-96B6-4112-BF12-14F0E12E7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D217-2154-477C-9CD8-F6699AA2C8A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B6766B-5118-443C-914D-F600D0DE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2539AF-E1F3-4BC5-A0C1-CB56D44A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F7A15C-B30C-48F8-ABBA-897559C5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5EFA51-6137-4CA3-8676-BE580DED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A365BD-199D-4153-9FE8-5CCC3CCB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BA779D-D450-47CB-ABF0-CD95F901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ED0D91-F23E-408D-A94D-0E7F48D0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F02B0A-50A2-4879-BBA7-46B6F0EB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0EA5A2-2638-4EF5-B761-1C9B2EEA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6D5573-1267-4330-B217-1924847C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9EBE-65A1-485C-B9C7-F2BC8586591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7B1A3D-901C-41CB-9805-D9AD2600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539E5C-C608-49EF-9DA4-638F0B26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D0EA28-FF14-4165-9847-FBB01A3C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77B5AD-66D1-4B82-99D1-AD326C27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3D2773-ACBB-44D5-AC1E-C1DD08BC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DDA02F-E205-41F3-A65A-1EFDF6EA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E58D39-C09D-462C-8589-C8BCDC47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445B7A-58B5-41CF-852A-64D6FECA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2CB2A1-359E-4EE7-A383-77E492DB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DB73AE-75F5-47F9-86EC-C4128EF3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A9B75-0533-41F5-B9CA-BE59035CDDC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2A57C0-9B20-4E8C-AAEC-0C3F8697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BBBF91-4C62-4154-91C2-4F283AA7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DFE429-BFB1-47E1-B3C0-C10735B8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748915-EFAE-4B95-9ED1-6AE5CBD3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03F639-BC40-4E70-BD25-A2C5EB92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D1334F-C923-4F81-B8BE-E0DE1277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F74E8B-91CF-4334-90A9-C0A190F0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0EE4C8-88A1-49AE-BFD9-CBA9C7CD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6C75D2-B33D-497D-BB81-2314D0D0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AADAB1-6F80-42E9-A77C-C055B230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3EF98-5551-4F6F-B2FB-9CE370D899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54D848-E9CC-4475-964B-0E1BA451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EFA288-2296-4620-9332-8A9BDB3D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9CAA57-85BD-4979-A831-7CD7FAFE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BF2319-2C8C-4612-8BC5-1241B6BC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14A3B2-52EA-4834-805D-7568AB5A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0348DC-E78B-4146-B984-E6516658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BED681-95D0-41C9-B630-4575E19C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30122C-78CD-458D-A8A0-CAFAA5BF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2D0F08-28CD-47A6-97DA-70DD2E14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9E7803-B5A8-422A-AB36-2370F1E8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C5D23-DD1E-484F-BA85-BA5F8669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51CFD5-573F-4320-BE06-F526B95A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6EB9A1-93DF-4529-82F0-979F9CD7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4DC4D6-7C97-4530-860A-1805339A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D0162C-77C8-419B-AD99-804A8FBF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FFDBAA-7405-467B-AA03-8DA5FF2B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A628E-A98E-4459-8E2E-E07C1B8E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07D3F-2C0E-4863-B465-D4613EEE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CE8BA-324D-4A77-949F-B13A6497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2F923-33C2-4F0E-B1A4-DCC6F3F3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5C6D8-AD5B-40CE-86B4-1759F8CC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BC752-367A-4282-BA2D-CF23E64FC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87127-328C-48A7-A294-3E03DDFB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8398C-388A-494F-BE2E-E128038A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2EDC9-A956-4FC7-BD64-32C67FD1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60DDF-1F65-4532-A6F7-225652B4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7AFDF-A44A-4B09-A999-029D0563B8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D3562-80AA-4D0F-9482-DC816A6F8D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72AB5-CC93-4B40-99C7-2F2E1333BA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0AE6E-40E5-4976-8B36-D5B506CE75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AD487-59F2-4282-928B-612373CB2F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18298-B9FF-4DFC-8189-696EAD10E7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BCE5E-4965-4C9F-9FB5-7698B19AEF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B7C90-47F8-4AB8-AAD7-C040CD9328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8F88F-BEEE-4189-AD95-AC5DBE6B5B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711EA-252E-4D2C-A534-D01C8BD375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24EF3-92C4-4110-9CCF-F9B02D041A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3BE5B-B33F-4D43-9275-70FB9A3AA4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D0174-CEC8-4BFB-BE70-AF67277E53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32E57-656E-42E8-BDE3-32D3B4C133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08516-4705-44F0-813F-1545FEA1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39394-8CB3-4C60-9BFC-1A3D3A7C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D2EBC-B933-4A6F-BF4D-99832011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41B90-FB90-4546-B2E5-7EB70BD3FA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E2142-687B-4A0C-81AF-E21CF575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C2326-9AE6-4FD1-893E-361BFF93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284BE-DAB4-4B03-A0A6-47DAE416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60D10-3CAA-43DA-8455-4AA5E3F7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1802A-AB9A-45A6-973A-E19A5C39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5BBF6-4463-46EF-A168-0F0DCBAB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D3FA2-2BAC-4CBE-99D1-39C9A8B2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C6839-EA99-4B42-ACF2-2A84F68F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C05DA-E79E-4858-85B1-2E9B5333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AD5BD-331D-4C19-A09E-D997E26E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C0B09-19D7-4FFE-8A2E-F8B74522C96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C15B6-F650-4D90-814B-368D17E5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C242E-224C-4F5C-B7BD-2A5DA8B0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CC3F3-BF5E-4E07-A379-0758F923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981CF-8A91-4CA5-B186-3FD240F1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1B81E-3D75-4621-B2AA-D3241243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7B266-A9A0-4F17-B26B-9302F2EE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F7414-436B-41F5-9B02-21E0E38E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2064C-2270-47B0-9000-E2C4E7A6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62A76-34B0-47CF-BBAD-5D56C368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B1832-1DA3-46AE-AD9D-A759A8C1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3466D-F54C-422E-9685-C6AED66814E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930DE-7104-4415-8225-5A4F8C15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B61A9-2F1A-4760-859F-3DC2BFF0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D346C-6A69-460B-85A1-9E694A60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E47C4-0421-47F0-B6C3-D9E18A17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E37E6-6378-4474-8220-8AE991ED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5D9EC-562E-44CE-B54A-F72B2ABF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70CFB-4F5C-43FA-8E47-7E9F4F75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6B7D8-B982-4103-BCBC-2C5BC3B8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6B43B-F5C5-4DCF-83F4-ADDB3100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523F5-0209-4540-B210-D8115A67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EF840-ED07-4066-B05B-F6F2295ABAF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B7EAA-9811-4051-8713-CFA60EF4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D542D-85B5-44D5-A821-2A94C185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A0EC1-3A7E-420B-8716-4855A3CE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FCA804-7F32-45C6-B2C1-C8381A4B8F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2F88EB-9CCB-416A-97E2-E7668993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CFDB73-4D5D-4774-9028-C11C2F0B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5D325B-447A-4C98-98E9-D45050DA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2A921D-8EC2-4F74-B20C-65BF3456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574E9A-7DF9-45AD-91BF-79DAB029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D269D-6EF1-4CDE-84A5-6B00431F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0105-F809-4BBB-82FE-4591D236E3F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8D457F-438D-4BC9-89C1-93F681FB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9329A1-7C74-453A-A9BB-F5F08458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9A1F47-713C-457B-BAF5-0F4E8230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7120D3-DAA4-4E79-A0B9-10DF7296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73C64B-8771-49B8-B2CB-EC46838B8F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F2B9EE-0D28-488A-A091-74846E6D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5F821E-8033-453A-B9E0-E2674B8C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0BC591-1E38-405D-BA8F-532BD6B0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2EBA35-A3C5-4619-AACC-4042ADDA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3182AE-C8C7-4719-9874-B4A1B805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97BA-D905-46F9-8018-087394E1F98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F54881-AF86-4CA9-8454-6AD278CA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585984-378A-45D0-9939-22EBE617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F8E5FE-8E9B-4FBF-8018-762CC3BB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B25B8-3CF2-4A16-960B-4954408A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506568-0001-475B-B0B5-1BCCE898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24558D-6962-4DD6-95CC-F3460424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A7AC9E-AE39-4E11-9B8E-E71714AD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7A30C2-EC8B-456F-A758-4BD68AE5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101A49-EBC4-43E4-8EF5-E3026A56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B571B9-C4A0-41A3-84F5-93A358FC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hyperlink" Target="http://www.ibermatica.com/ibermatica" TargetMode="Externa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hyperlink" Target="http://www.ibermatica.com/ibermatica" TargetMode="Externa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1A9B4-6BFF-434E-9830-B90A3C46FD0E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7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13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17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530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536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540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82AB38-91CA-4CF1-A9CF-3EF7FD72A632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25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6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AF58E-6E5A-4B86-BC42-B838DF865257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587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593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597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FAF34-2DCA-414E-B0A0-4C15470C43FE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28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sldNum" idx="29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E9D02-D9B9-4C8D-B7FC-327464822EF6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644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650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654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6F863-ECF1-4C86-A552-B8971374699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ftr" idx="31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32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6AD83-757F-4099-A4E2-6082D799490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59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65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69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1905120" y="64008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B54A6-CA6B-483D-B862-9CAEFE68EE6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4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50673-B777-4BBF-9DB0-889E2C664C84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15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121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12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A9FF38-AD19-4A0A-AD0E-4A63FDCEB119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2057400" y="228600"/>
            <a:ext cx="2089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ibermatica.com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linea"/>
          <p:cNvPicPr/>
          <p:nvPr/>
        </p:nvPicPr>
        <p:blipFill>
          <a:blip r:embed="rId11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31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2033640" y="112680"/>
            <a:ext cx="33004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3" descr=""/>
          <p:cNvPicPr/>
          <p:nvPr/>
        </p:nvPicPr>
        <p:blipFill>
          <a:blip r:embed="rId12"/>
          <a:stretch/>
        </p:blipFill>
        <p:spPr>
          <a:xfrm>
            <a:off x="0" y="6438960"/>
            <a:ext cx="1835280" cy="419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Num" idx="5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18E8A-5CE3-4CE9-B599-1CE43DF7125D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6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80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186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190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F2596-8154-4485-B24B-05B27FB7B798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4" descr="ibermatica.com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linea"/>
          <p:cNvPicPr/>
          <p:nvPr/>
        </p:nvPicPr>
        <p:blipFill>
          <a:blip r:embed="rId11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96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4" descr=""/>
          <p:cNvPicPr/>
          <p:nvPr/>
        </p:nvPicPr>
        <p:blipFill>
          <a:blip r:embed="rId12"/>
          <a:stretch/>
        </p:blipFill>
        <p:spPr>
          <a:xfrm>
            <a:off x="0" y="6438960"/>
            <a:ext cx="1835280" cy="4190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0500C-6ED3-4101-8179-8C843612D12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8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9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1B5A3-1B4A-4B4C-B0D0-863667E4BD94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245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251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25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95CC9-FCAD-4E01-A743-A223AC87D46F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99476-C75F-49B7-BCCE-978456E4A46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302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308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312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59DCB-327A-4E01-B7EE-9CB79C84C3D1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4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5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FB858-65A8-4654-94C4-BF282B181AB3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359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365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369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EA8E1-8DD8-449C-9C0F-E8F0D41C344D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Num" idx="17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91230-56F3-42E2-8EDE-E25405C379C5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415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421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42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C6FBD-C7AE-4DC8-AB02-AD9A69261EDE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9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0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A2508-9399-4EF7-B159-CE85C0BBA663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473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479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483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B7437-DD35-4781-B464-070A8A2D915F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ftr" idx="22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sldNum" idx="23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CBF4A-9E97-49CA-84DF-2BBDBA59F60F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gaupload.com/?d=4XP6DWCZ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hyperlink" Target="http://camtasia-studio.softonic.com/" TargetMode="External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rientadoresviu.wikispaces.com/OrientaTe+Videotutoriales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400" spc="-1" strike="noStrike">
                <a:solidFill>
                  <a:srgbClr val="984807"/>
                </a:solidFill>
                <a:latin typeface="Arial"/>
                <a:ea typeface="Arial"/>
              </a:rPr>
              <a:t>¿Qué aportan las NTIC a la Educació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304560" y="3374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898989"/>
                </a:solidFill>
                <a:latin typeface="Arial"/>
              </a:rPr>
              <a:t>Presentación de herramientas Digitales para la Educ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898989"/>
                </a:solidFill>
                <a:latin typeface="Arial"/>
              </a:rPr>
              <a:t>Actividad Bloque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2052720"/>
          </a:xfrm>
          <a:prstGeom prst="rect">
            <a:avLst/>
          </a:prstGeom>
          <a:ln w="0">
            <a:noFill/>
          </a:ln>
        </p:spPr>
      </p:pic>
      <p:sp>
        <p:nvSpPr>
          <p:cNvPr id="707" name="Subtitle 2"/>
          <p:cNvSpPr/>
          <p:nvPr/>
        </p:nvSpPr>
        <p:spPr>
          <a:xfrm>
            <a:off x="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Arial"/>
                <a:ea typeface="Arial"/>
              </a:rPr>
              <a:t>Trabajo Elaborado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Arial"/>
                <a:ea typeface="Arial"/>
              </a:rPr>
              <a:t>Amalia Revuelta Cand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7" descr="Nuevo Logo.jpg"/>
          <p:cNvPicPr/>
          <p:nvPr/>
        </p:nvPicPr>
        <p:blipFill>
          <a:blip r:embed="rId2"/>
          <a:stretch/>
        </p:blipFill>
        <p:spPr>
          <a:xfrm>
            <a:off x="6261120" y="4260960"/>
            <a:ext cx="219708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2590560" y="5785920"/>
            <a:ext cx="609588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http://www.eduteka.org/AprendizajeHerramientasDigitales.ph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8"/>
          <p:cNvSpPr/>
          <p:nvPr/>
        </p:nvSpPr>
        <p:spPr>
          <a:xfrm>
            <a:off x="76320" y="3352680"/>
            <a:ext cx="236196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2" descr="linea"/>
          <p:cNvPicPr/>
          <p:nvPr/>
        </p:nvPicPr>
        <p:blipFill>
          <a:blip r:embed="rId1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MIND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2" descr="SAT 4 copia"/>
          <p:cNvPicPr/>
          <p:nvPr/>
        </p:nvPicPr>
        <p:blipFill>
          <a:blip r:embed="rId2"/>
          <a:stretch/>
        </p:blipFill>
        <p:spPr>
          <a:xfrm>
            <a:off x="0" y="692280"/>
            <a:ext cx="2584440" cy="2808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9" descr="flecha"/>
          <p:cNvPicPr/>
          <p:nvPr/>
        </p:nvPicPr>
        <p:blipFill>
          <a:blip r:embed="rId3"/>
          <a:stretch/>
        </p:blipFill>
        <p:spPr>
          <a:xfrm>
            <a:off x="76320" y="5229360"/>
            <a:ext cx="247680" cy="257040"/>
          </a:xfrm>
          <a:prstGeom prst="rect">
            <a:avLst/>
          </a:prstGeom>
          <a:ln w="0">
            <a:noFill/>
          </a:ln>
        </p:spPr>
      </p:pic>
      <p:sp>
        <p:nvSpPr>
          <p:cNvPr id="781" name="Text Placeholder 1"/>
          <p:cNvSpPr/>
          <p:nvPr/>
        </p:nvSpPr>
        <p:spPr>
          <a:xfrm>
            <a:off x="2743200" y="2038320"/>
            <a:ext cx="609588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http://orientadoresviu.wikispaces.com/OrientaTe+Videotu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youtube.com/watch?v=UnqR60B_lNI&amp;feature=player_embed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0" y="83808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336699"/>
                </a:solidFill>
                <a:latin typeface="Arial"/>
              </a:rPr>
              <a:t>¡Felicidades por tu Participación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8"/>
          <p:cNvGrpSpPr/>
          <p:nvPr/>
        </p:nvGrpSpPr>
        <p:grpSpPr>
          <a:xfrm>
            <a:off x="1447920" y="1600200"/>
            <a:ext cx="6476760" cy="5029200"/>
            <a:chOff x="1447920" y="1600200"/>
            <a:chExt cx="6476760" cy="5029200"/>
          </a:xfrm>
        </p:grpSpPr>
        <p:pic>
          <p:nvPicPr>
            <p:cNvPr id="784" name="Picture 6" descr=""/>
            <p:cNvPicPr/>
            <p:nvPr/>
          </p:nvPicPr>
          <p:blipFill>
            <a:blip r:embed="rId1"/>
            <a:stretch/>
          </p:blipFill>
          <p:spPr>
            <a:xfrm>
              <a:off x="1447920" y="1600200"/>
              <a:ext cx="647676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TextBox 7"/>
            <p:cNvSpPr/>
            <p:nvPr/>
          </p:nvSpPr>
          <p:spPr>
            <a:xfrm>
              <a:off x="2044800" y="1752480"/>
              <a:ext cx="4203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¿Sabes qué creo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Box 8"/>
            <p:cNvSpPr/>
            <p:nvPr/>
          </p:nvSpPr>
          <p:spPr>
            <a:xfrm>
              <a:off x="1905120" y="2065320"/>
              <a:ext cx="50292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QUE TANTA HERRAMIENTA TIC, TANTA TECNOLOGÍA Y TANTA WIKI,.. VA A ACABAR CON M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9"/>
            <p:cNvSpPr/>
            <p:nvPr/>
          </p:nvSpPr>
          <p:spPr>
            <a:xfrm>
              <a:off x="2044800" y="2819160"/>
              <a:ext cx="5499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FAMILIA !!!!!!!!!!!!!!!!!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0"/>
            <p:cNvSpPr/>
            <p:nvPr/>
          </p:nvSpPr>
          <p:spPr>
            <a:xfrm>
              <a:off x="4419720" y="4038480"/>
              <a:ext cx="3124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CON MI FACEBOOK DE LA VI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0" descr="Pizarra 1.jpg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10080"/>
          </a:xfrm>
          <a:prstGeom prst="rect">
            <a:avLst/>
          </a:prstGeom>
          <a:ln w="0">
            <a:noFill/>
          </a:ln>
        </p:spPr>
      </p:pic>
      <p:sp>
        <p:nvSpPr>
          <p:cNvPr id="710" name="Footer Placeholder 4"/>
          <p:cNvSpPr/>
          <p:nvPr/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61760" y="1645920"/>
            <a:ext cx="609588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ocer y utilizar las herramientas tecnológicas más comunes y sus posibilidades de aplicación en el contexto educativo adquiriendo una postura personal rigurosa, crítica e innovadora que enriquezca su experiencia y práctica educ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iciarse en el diseño y producción de contenidos mediante software y webware como recurso form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825880" y="866520"/>
            <a:ext cx="2438280" cy="533160"/>
          </a:xfrm>
          <a:prstGeom prst="rect">
            <a:avLst/>
          </a:prstGeom>
          <a:solidFill>
            <a:srgbClr val="376092">
              <a:alpha val="53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f2f2f2"/>
                </a:solidFill>
                <a:latin typeface="Calibri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457200" y="5037120"/>
            <a:ext cx="624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tiempo es uno de los bienes más preciosos y hay que ser capaz de aprovecharlo... Cualquier sistema que nos ayude a optimizarlo, y más aún si requiere poco esfuerzo, hay que considerarlo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Oval 13"/>
          <p:cNvSpPr/>
          <p:nvPr/>
        </p:nvSpPr>
        <p:spPr>
          <a:xfrm>
            <a:off x="4052880" y="2182680"/>
            <a:ext cx="990720" cy="990720"/>
          </a:xfrm>
          <a:prstGeom prst="ellipse">
            <a:avLst/>
          </a:prstGeom>
          <a:noFill/>
          <a:ln w="76320">
            <a:solidFill>
              <a:srgbClr val="336699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400" spc="-1" strike="noStrike">
                <a:solidFill>
                  <a:srgbClr val="5f5f5f"/>
                </a:solidFill>
                <a:latin typeface="Arial Rounded MT Bold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4"/>
          <p:cNvSpPr/>
          <p:nvPr/>
        </p:nvSpPr>
        <p:spPr>
          <a:xfrm>
            <a:off x="2652840" y="1103400"/>
            <a:ext cx="5043240" cy="4968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51080" indent="-1351080" algn="r">
              <a:buClr>
                <a:srgbClr val="ffff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Índice de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15"/>
          <p:cNvSpPr/>
          <p:nvPr/>
        </p:nvSpPr>
        <p:spPr>
          <a:xfrm>
            <a:off x="1295280" y="2133720"/>
            <a:ext cx="990720" cy="990360"/>
          </a:xfrm>
          <a:prstGeom prst="ellipse">
            <a:avLst/>
          </a:prstGeom>
          <a:noFill/>
          <a:ln w="76320">
            <a:solidFill>
              <a:srgbClr val="984807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400" spc="-1" strike="noStrike">
                <a:solidFill>
                  <a:srgbClr val="5f5f5f"/>
                </a:solidFill>
                <a:latin typeface="Arial Rounded MT Bold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16"/>
          <p:cNvSpPr/>
          <p:nvPr/>
        </p:nvSpPr>
        <p:spPr>
          <a:xfrm>
            <a:off x="6865920" y="2195640"/>
            <a:ext cx="990720" cy="988920"/>
          </a:xfrm>
          <a:prstGeom prst="ellipse">
            <a:avLst/>
          </a:prstGeom>
          <a:noFill/>
          <a:ln w="76320">
            <a:solidFill>
              <a:srgbClr val="336699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400" spc="-1" strike="noStrike">
                <a:solidFill>
                  <a:srgbClr val="5f5f5f"/>
                </a:solidFill>
                <a:latin typeface="Arial Rounded MT Bold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8"/>
          <p:cNvSpPr/>
          <p:nvPr/>
        </p:nvSpPr>
        <p:spPr>
          <a:xfrm>
            <a:off x="554040" y="3735360"/>
            <a:ext cx="241776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9"/>
          <p:cNvSpPr/>
          <p:nvPr/>
        </p:nvSpPr>
        <p:spPr>
          <a:xfrm>
            <a:off x="625320" y="3176640"/>
            <a:ext cx="2346480" cy="49860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Uso educativ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Herramientas Digi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0"/>
          <p:cNvSpPr/>
          <p:nvPr/>
        </p:nvSpPr>
        <p:spPr>
          <a:xfrm>
            <a:off x="3483000" y="3220920"/>
            <a:ext cx="2232000" cy="4572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Herramien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CAMTA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1"/>
          <p:cNvSpPr/>
          <p:nvPr/>
        </p:nvSpPr>
        <p:spPr>
          <a:xfrm>
            <a:off x="6256440" y="3208320"/>
            <a:ext cx="2286000" cy="4572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Herramien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Mind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3"/>
          <p:cNvSpPr/>
          <p:nvPr/>
        </p:nvSpPr>
        <p:spPr>
          <a:xfrm>
            <a:off x="3483000" y="3701880"/>
            <a:ext cx="2232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 Presentacion de la Herrami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2. Uso y aplicación en la educ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3. Enlace al Video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3"/>
          <p:cNvSpPr/>
          <p:nvPr/>
        </p:nvSpPr>
        <p:spPr>
          <a:xfrm>
            <a:off x="6324480" y="3733920"/>
            <a:ext cx="221796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 Presentacion de la Herrami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2. Uso y aplicación en la educ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3. Enlace al Video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2590560" y="1722240"/>
            <a:ext cx="609588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herramientas informáticas cumplen ciertas funciones en los procesos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ooter Placeholder 4"/>
          <p:cNvSpPr/>
          <p:nvPr/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8"/>
          <p:cNvSpPr/>
          <p:nvPr/>
        </p:nvSpPr>
        <p:spPr>
          <a:xfrm>
            <a:off x="76320" y="3352680"/>
            <a:ext cx="23288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2" descr="SAT 2 copia"/>
          <p:cNvPicPr/>
          <p:nvPr/>
        </p:nvPicPr>
        <p:blipFill>
          <a:blip r:embed="rId1"/>
          <a:stretch/>
        </p:blipFill>
        <p:spPr>
          <a:xfrm>
            <a:off x="19080" y="838080"/>
            <a:ext cx="2386080" cy="2592360"/>
          </a:xfrm>
          <a:prstGeom prst="rect">
            <a:avLst/>
          </a:prstGeom>
          <a:ln w="0">
            <a:noFill/>
          </a:ln>
        </p:spPr>
      </p:pic>
      <p:grpSp>
        <p:nvGrpSpPr>
          <p:cNvPr id="728" name="Freeform 8"/>
          <p:cNvGrpSpPr/>
          <p:nvPr/>
        </p:nvGrpSpPr>
        <p:grpSpPr>
          <a:xfrm>
            <a:off x="2548080" y="3200400"/>
            <a:ext cx="2517480" cy="2136600"/>
            <a:chOff x="2548080" y="3200400"/>
            <a:chExt cx="2517480" cy="2136600"/>
          </a:xfrm>
        </p:grpSpPr>
        <p:pic>
          <p:nvPicPr>
            <p:cNvPr id="729" name="Freeform 8" descr=""/>
            <p:cNvPicPr/>
            <p:nvPr/>
          </p:nvPicPr>
          <p:blipFill>
            <a:blip r:embed="rId2"/>
            <a:stretch/>
          </p:blipFill>
          <p:spPr>
            <a:xfrm>
              <a:off x="2548080" y="3200400"/>
              <a:ext cx="251748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2666880" y="3322800"/>
              <a:ext cx="2286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izar qué queremos Enseñar con la herramienta: Aprender, Investigar, Colaborar, Tomar Decisiones, etc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9"/>
          <p:cNvSpPr/>
          <p:nvPr/>
        </p:nvSpPr>
        <p:spPr>
          <a:xfrm>
            <a:off x="6172200" y="304812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Una vez identificado lo que queremos enseñar debemos seleccionar, dentro del grupo de herramientas y aplicaciones disponibles, cuál se ajusta mejor al contexto de 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us 11"/>
          <p:cNvSpPr/>
          <p:nvPr/>
        </p:nvSpPr>
        <p:spPr>
          <a:xfrm>
            <a:off x="4800600" y="3352680"/>
            <a:ext cx="1600200" cy="164160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971800" y="1066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so educativo de Herramienta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2" descr="linea"/>
          <p:cNvPicPr/>
          <p:nvPr/>
        </p:nvPicPr>
        <p:blipFill>
          <a:blip r:embed="rId3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9" descr="flecha"/>
          <p:cNvPicPr/>
          <p:nvPr/>
        </p:nvPicPr>
        <p:blipFill>
          <a:blip r:embed="rId4"/>
          <a:stretch/>
        </p:blipFill>
        <p:spPr>
          <a:xfrm>
            <a:off x="76320" y="4848120"/>
            <a:ext cx="2476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1904760" y="406224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megaupload.com/?d=4XP6DWCZ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2" descr="SAT 2 copia"/>
          <p:cNvPicPr/>
          <p:nvPr/>
        </p:nvPicPr>
        <p:blipFill>
          <a:blip r:embed="rId2"/>
          <a:stretch/>
        </p:blipFill>
        <p:spPr>
          <a:xfrm>
            <a:off x="19080" y="692280"/>
            <a:ext cx="2386080" cy="259236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18"/>
          <p:cNvSpPr/>
          <p:nvPr/>
        </p:nvSpPr>
        <p:spPr>
          <a:xfrm>
            <a:off x="76320" y="3352680"/>
            <a:ext cx="23288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" descr="linea"/>
          <p:cNvPicPr/>
          <p:nvPr/>
        </p:nvPicPr>
        <p:blipFill>
          <a:blip r:embed="rId3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9" descr="flecha"/>
          <p:cNvPicPr/>
          <p:nvPr/>
        </p:nvPicPr>
        <p:blipFill>
          <a:blip r:embed="rId4"/>
          <a:stretch/>
        </p:blipFill>
        <p:spPr>
          <a:xfrm>
            <a:off x="76320" y="5305320"/>
            <a:ext cx="247680" cy="2574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"/>
          <p:cNvPicPr/>
          <p:nvPr/>
        </p:nvPicPr>
        <p:blipFill>
          <a:blip r:embed="rId5"/>
          <a:stretch/>
        </p:blipFill>
        <p:spPr>
          <a:xfrm>
            <a:off x="6019920" y="2100240"/>
            <a:ext cx="2827080" cy="186228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7"/>
          <p:cNvSpPr/>
          <p:nvPr/>
        </p:nvSpPr>
        <p:spPr>
          <a:xfrm>
            <a:off x="2666880" y="23922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mtasia 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quete de utilidades con las que registrar y editar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8"/>
          <p:cNvSpPr/>
          <p:nvPr/>
        </p:nvSpPr>
        <p:spPr>
          <a:xfrm>
            <a:off x="2590920" y="4778280"/>
            <a:ext cx="32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ind Manag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stiona tus proyectos con mapas organizativos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9" descr=""/>
          <p:cNvPicPr/>
          <p:nvPr/>
        </p:nvPicPr>
        <p:blipFill>
          <a:blip r:embed="rId6"/>
          <a:stretch/>
        </p:blipFill>
        <p:spPr>
          <a:xfrm>
            <a:off x="6324480" y="4541760"/>
            <a:ext cx="2362320" cy="204156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12"/>
          <p:cNvSpPr/>
          <p:nvPr/>
        </p:nvSpPr>
        <p:spPr>
          <a:xfrm>
            <a:off x="2971800" y="1066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so educativo de Herramienta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1"/>
          <p:cNvSpPr/>
          <p:nvPr/>
        </p:nvSpPr>
        <p:spPr>
          <a:xfrm>
            <a:off x="2690280" y="1655640"/>
            <a:ext cx="49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camtasia-studio.softonic.co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2590920" y="1722600"/>
            <a:ext cx="632448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herramienta permite grabar cualquier ac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xplicar el funcionamiento de un programa informático. Una manera fácil, pues, de crear videotu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compartir un problema tecnológico y explicárselo a sopo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2" descr="SAT 3 copia"/>
          <p:cNvPicPr/>
          <p:nvPr/>
        </p:nvPicPr>
        <p:blipFill>
          <a:blip r:embed="rId1"/>
          <a:stretch/>
        </p:blipFill>
        <p:spPr>
          <a:xfrm>
            <a:off x="0" y="838080"/>
            <a:ext cx="2301840" cy="2502000"/>
          </a:xfrm>
          <a:prstGeom prst="rect">
            <a:avLst/>
          </a:prstGeom>
          <a:ln w="0">
            <a:noFill/>
          </a:ln>
        </p:spPr>
      </p:pic>
      <p:sp>
        <p:nvSpPr>
          <p:cNvPr id="749" name="Rectangle 18"/>
          <p:cNvSpPr/>
          <p:nvPr/>
        </p:nvSpPr>
        <p:spPr>
          <a:xfrm>
            <a:off x="76320" y="3352680"/>
            <a:ext cx="222552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 CAMT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2" descr="linea"/>
          <p:cNvPicPr/>
          <p:nvPr/>
        </p:nvPicPr>
        <p:blipFill>
          <a:blip r:embed="rId2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9" descr="flecha"/>
          <p:cNvPicPr/>
          <p:nvPr/>
        </p:nvPicPr>
        <p:blipFill>
          <a:blip r:embed="rId3"/>
          <a:stretch/>
        </p:blipFill>
        <p:spPr>
          <a:xfrm>
            <a:off x="76320" y="4572000"/>
            <a:ext cx="247680" cy="257040"/>
          </a:xfrm>
          <a:prstGeom prst="rect">
            <a:avLst/>
          </a:prstGeom>
          <a:ln w="0">
            <a:noFill/>
          </a:ln>
        </p:spPr>
      </p:pic>
      <p:sp>
        <p:nvSpPr>
          <p:cNvPr id="752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CAMT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9"/>
          <p:cNvSpPr/>
          <p:nvPr/>
        </p:nvSpPr>
        <p:spPr>
          <a:xfrm>
            <a:off x="2438280" y="5626080"/>
            <a:ext cx="655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ernández-Quijada, David; Bonet, Montse (2009)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Camtasia Studio, creación de animaciones multimedia educativas. @tic. Revista d’innovació educativa. (nº 3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4"/>
          <a:stretch/>
        </p:blipFill>
        <p:spPr>
          <a:xfrm>
            <a:off x="7074000" y="6330960"/>
            <a:ext cx="16128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2590560" y="2636640"/>
            <a:ext cx="60958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rientadoresviu.wikispaces.com/OrientaTe+Videotu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tp://www.youtube.com/watch#!v=WwbrygX_Yq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2" descr="SAT 3 copia"/>
          <p:cNvPicPr/>
          <p:nvPr/>
        </p:nvPicPr>
        <p:blipFill>
          <a:blip r:embed="rId2"/>
          <a:stretch/>
        </p:blipFill>
        <p:spPr>
          <a:xfrm>
            <a:off x="0" y="838080"/>
            <a:ext cx="2301840" cy="250200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18"/>
          <p:cNvSpPr/>
          <p:nvPr/>
        </p:nvSpPr>
        <p:spPr>
          <a:xfrm>
            <a:off x="76320" y="3352680"/>
            <a:ext cx="222552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2" descr="linea"/>
          <p:cNvPicPr/>
          <p:nvPr/>
        </p:nvPicPr>
        <p:blipFill>
          <a:blip r:embed="rId3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5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CAMT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19" descr="flecha"/>
          <p:cNvPicPr/>
          <p:nvPr/>
        </p:nvPicPr>
        <p:blipFill>
          <a:blip r:embed="rId4"/>
          <a:stretch/>
        </p:blipFill>
        <p:spPr>
          <a:xfrm>
            <a:off x="76320" y="5305320"/>
            <a:ext cx="2476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2590560" y="1722240"/>
            <a:ext cx="609588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rramientas interactivas de razonamiento que ayuda a los estudiantes a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2" descr="SAT 4 copia"/>
          <p:cNvPicPr/>
          <p:nvPr/>
        </p:nvPicPr>
        <p:blipFill>
          <a:blip r:embed="rId1"/>
          <a:stretch/>
        </p:blipFill>
        <p:spPr>
          <a:xfrm>
            <a:off x="0" y="692280"/>
            <a:ext cx="2584440" cy="280800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18"/>
          <p:cNvSpPr/>
          <p:nvPr/>
        </p:nvSpPr>
        <p:spPr>
          <a:xfrm>
            <a:off x="76320" y="3352680"/>
            <a:ext cx="220968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2" descr="linea"/>
          <p:cNvPicPr/>
          <p:nvPr/>
        </p:nvPicPr>
        <p:blipFill>
          <a:blip r:embed="rId2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MIND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19" descr="flecha"/>
          <p:cNvPicPr/>
          <p:nvPr/>
        </p:nvPicPr>
        <p:blipFill>
          <a:blip r:embed="rId3"/>
          <a:stretch/>
        </p:blipFill>
        <p:spPr>
          <a:xfrm>
            <a:off x="76320" y="4848120"/>
            <a:ext cx="247680" cy="25740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8"/>
          <p:cNvSpPr/>
          <p:nvPr/>
        </p:nvSpPr>
        <p:spPr>
          <a:xfrm>
            <a:off x="2590920" y="260208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denar y prioriza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lementos de una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trui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rgumentos bien razo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ganiz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os factores que influyen o impactan un problema o situación y a comprender cómo esos factores interactúan unos con otros en relaciones de causa-efec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ualiz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ediante “mapas “ment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8"/>
          <p:cNvSpPr/>
          <p:nvPr/>
        </p:nvSpPr>
        <p:spPr>
          <a:xfrm>
            <a:off x="76320" y="3352680"/>
            <a:ext cx="236196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2" descr="linea"/>
          <p:cNvPicPr/>
          <p:nvPr/>
        </p:nvPicPr>
        <p:blipFill>
          <a:blip r:embed="rId1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MIND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" descr="SAT 4 copia"/>
          <p:cNvPicPr/>
          <p:nvPr/>
        </p:nvPicPr>
        <p:blipFill>
          <a:blip r:embed="rId2"/>
          <a:stretch/>
        </p:blipFill>
        <p:spPr>
          <a:xfrm>
            <a:off x="0" y="692280"/>
            <a:ext cx="2584440" cy="2808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9" descr="flecha"/>
          <p:cNvPicPr/>
          <p:nvPr/>
        </p:nvPicPr>
        <p:blipFill>
          <a:blip r:embed="rId3"/>
          <a:stretch/>
        </p:blipFill>
        <p:spPr>
          <a:xfrm>
            <a:off x="76320" y="5229360"/>
            <a:ext cx="247680" cy="25704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10"/>
          <p:cNvSpPr/>
          <p:nvPr/>
        </p:nvSpPr>
        <p:spPr>
          <a:xfrm>
            <a:off x="2584440" y="1477800"/>
            <a:ext cx="655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imagen vale más que mil palabras y visibilizar pensamientos e ideas para compartirlos, es el primer paso construir conoc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12" descr="taconfta.gif"/>
          <p:cNvPicPr/>
          <p:nvPr/>
        </p:nvPicPr>
        <p:blipFill>
          <a:blip r:embed="rId4"/>
          <a:stretch/>
        </p:blipFill>
        <p:spPr>
          <a:xfrm>
            <a:off x="2448000" y="2971800"/>
            <a:ext cx="6543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6:13:13Z</dcterms:created>
  <dc:creator>Coaching PD</dc:creator>
  <dc:description/>
  <dc:language>en-US</dc:language>
  <cp:lastModifiedBy>Coaching PD</cp:lastModifiedBy>
  <dcterms:modified xsi:type="dcterms:W3CDTF">2010-10-20T16:35:42Z</dcterms:modified>
  <cp:revision>95</cp:revision>
  <dc:subject/>
  <dc:title>¿Qué aportan las NTIC a la Educación?</dc:title>
</cp:coreProperties>
</file>