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069FE-8D73-4ED9-9EFA-A54254EF92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CC82E-DEE6-4382-9805-C0E68C1B24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52BE1-D1E8-4F6F-A772-F1718B25D2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13E3-F65F-47FF-B97A-17253ACB3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C46A-6B7E-428E-BC3A-160723257B2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E1D4D0-0422-4150-A641-8730139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96B27E-89F2-4AF0-A6C8-17EF6DCF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9FF980-B100-4E51-B0F2-C8BF729D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C63F90-F8F4-46BC-850D-FB59790E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29FBD2-3266-4B7F-B3B3-3DC2E2F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6D803C-DFBD-4AD6-BF72-A199E502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4F261C-DBC3-4E5F-934D-1D0C75FF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BF23E2-7A1D-4D7F-B90F-F1C53099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82AFC-BD05-42BF-BD62-D6D0B138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ACFD65-9CE5-45D1-8B4F-76B97D70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E613-AF06-4490-8627-367055871D1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CC9972-E2F7-424A-A4A5-CF2CEB50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8A3C3C-7BCA-4321-90BC-9E525AA9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AA84A0-DE6D-49FE-BEAE-5C3EB37B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2DE3BF-7A1C-4C35-BE9C-45857388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F0F5F0-8944-4E93-B908-D0FC879A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9499DB-B0E5-4598-9496-69E799D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5125E6-33BB-41AE-B916-805BACA5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43B073-DD2B-40F1-AF98-62664E64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18ECD6-4E5C-4031-A9DE-182E0729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C25764-8693-44FE-A7A6-84CE5B2A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7459-21F5-4C06-8991-E2CEADF6210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391187-D7DF-4ADD-A635-2CA4582B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BFC8CC-6550-4115-B336-0C21ABD5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8CA476-A843-4F66-9163-39F615A4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454A87-0174-4CA6-9E69-2220CCB8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FC60EC-8142-476F-B529-8B826CE9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4CC0F7-46A7-4A42-9DE3-244ABB17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3A5055-A4E8-4AD3-A69A-95E22521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8E1CE4-5B1E-483F-93F8-1BB923B3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B119DA-906B-445C-94CD-27ADF921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C558E0-C14B-40CD-842F-B7CE5B53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AE1A1-998B-45F9-A4B1-5EDBDAF206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29A8D8-BBA4-460D-A562-8FEE36D3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25BA20-9C51-4934-A78F-41A88F31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128040-7C9C-448F-A169-03BDC0DD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D71022-0277-4D59-8D5C-16326C6A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DCDBB6-4B6B-44B2-8B4C-A79D78A9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5C8DC4-131F-4D54-BC4F-539448C6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A9B816-F968-4BFF-B1AE-1C2FFCBB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680B2A-5278-4E20-A544-87891BAF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25EAD4-FD58-48D7-95B0-E67BB9D3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D511DB-4CFD-47BE-934D-1969139B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DC678-9B05-4E6B-A938-E1BD6A9C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96512E-42BE-4126-83FF-DCD278B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801AA6-EDFC-45C7-A9DE-BAD4D6E9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A63401-5011-4D8D-998D-32005896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9FB40A-200E-4306-AD18-5F2C67C2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6286D3-D4A1-415D-B87F-F9FBEF21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9E913-91C6-488E-B2DB-CECD90A1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72BE2-11CA-4F67-83BF-91F06943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335B2-63C6-4226-8A9E-DB257E47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638F7-2E74-4796-ACBB-554B206C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D7F88-9A8E-41A6-ABFD-61047CB3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EEDF-2C66-4C08-8498-FDF349B9E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FF9C8-8F65-4140-9FD9-078F3521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0E0C6-B1CE-4220-BF5B-F63CE97C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48E8C-F3B1-473D-A8A4-8567A906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08E87-5A25-4A41-98C7-9F2039D8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F83DC-18F8-4846-9286-7F71CE6039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2BD80-BD9C-4222-85BC-850C9B16D4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31A4D-EECE-48A5-8663-5849CE496E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50C99-586A-4244-9FBB-AD743E60B4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6EB29-FED8-41C1-B538-C21B1021A1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AF092-9A65-4149-A949-2CD24DD86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871A-88A2-494C-8D7E-E4BC2DC5D8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AB6E8-5D48-472D-A2DE-8ABB76609B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7F025-8C97-4171-8820-49BB75C73C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4180D-007D-4F63-BF12-133CE6FBDC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10A24-0577-4E9A-B127-2DD521946A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1E204-D2AE-4C2F-9BBB-895BDB17F3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58ACE-06A6-4616-A806-B2503B6FE7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1F345-8F5C-4958-B141-D56DEC6DCA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860B-F102-4243-93BA-F4608015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E4532-10CE-42EA-BA73-63F0070A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FBEF-C64F-4866-A099-1B4547F1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49AD-0B5D-44E6-BB25-CFBD356C0F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ABCA5-F84E-4976-8F17-19DFA7E2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E006C-5158-4CD7-BF36-892D8492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C897-0191-44B6-BD34-13557ACE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DE05-C88B-4493-BA23-FEA8934E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40C8-C966-42E2-8E52-2745A9D8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995D-6A96-4FC7-B6D6-C55D445D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AAD2A-0AA0-481E-872B-5F315477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3E5B-91D7-4185-9DCF-A56BA09F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8D0F-13BC-41ED-A5AB-5B4936E2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F176E-BA20-4E1B-B02F-86024D25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021F-2F6A-4EAE-B734-7DB02FAC1B0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5E05F-7859-45D3-9A7F-D924CBC7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04C5-CFC0-4BDC-9CAA-6C9B46EC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E7EA-8E05-4ABE-A39A-64C241D8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B05C-3BEF-470B-91E2-3FAA9FE3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E7E0B-5BF5-4B0F-9565-590D09D3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6B1F-C2F9-49B9-BEAB-979907E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110FF-7C76-4267-BD53-0B2AC3BA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3D434-D167-4DD5-9863-AA75C98B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F0049-B304-4CAF-AABA-C9DAD2D0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C1C6-E6ED-498F-8201-6F877F8A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4ACA-293A-47D0-9E6C-B37ECD0891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C32F0-660E-429F-B2E3-23D7A2AF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EE2E7-84A7-4BCA-9FC2-A5F30C56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2B5D7-32B7-40B8-B5AD-A508AD91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81D8B-4E17-41A1-9211-20C37F5D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E62CB-C79B-4DF3-A6ED-7CB66F0C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5AD25-9A09-412A-89F6-40C158E0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429BB-920B-432B-9CCD-9B9F3366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433A5-53C5-405C-92AD-B594DC49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333B9-DFD3-4EA3-997D-4A570D2A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19423-202A-40CF-B30B-276504C8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C7B99-AB33-4F43-954E-2CBC953C757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22720-38A7-4BBF-A9A5-0EE2498F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42074-BDC5-43CC-AFAC-709622E8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C83CD-861A-4A96-9F3A-DC35DC92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BE132-8F6B-41CF-8F72-17B3A885E5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8443B-E0F9-47AA-B119-8953A9EB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F7D2C-BCA8-417B-AF1F-B980C5AA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9F938-356D-429F-A72B-2D2DDCAF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33DC05-03C0-491F-BECB-8F1F4C6D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9DBBD-C08A-4CBE-852A-46E66C6F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6699A8-6134-46D2-800F-8030B78C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FE19-E596-4923-9AFA-2C60E7FF167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0F0BB-0E52-47D1-8A89-EA36F3FB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28051-9583-4EB5-B069-769A0E31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54B83-9E1C-4497-8B83-33C17038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943A0-C456-412F-AB33-21DFD191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F5EF5-7D17-4278-9F77-0F6BA9DFAC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D3444-3668-4A00-ACBC-AED43FEC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DD80B-7787-4C61-B5B5-AE6417DD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F7D4F-CBE4-4CC5-A634-649DCA17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6F50F-C29B-47B5-8C35-95C57946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12120-D90F-47EB-9460-39E74FD6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0268-DCF5-49DA-878A-F832A113041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7873F1-AFE4-425D-AF17-34B7056A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9B2363-9E62-487A-AA9C-982D6625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8B2B4-495E-4615-96D1-DEE27D32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73E50-1238-4F20-8B3E-C99B99F2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91616-AB0A-487A-9938-D834B4A1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FF061-BD2D-4138-A475-D357A8DC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48A57-771D-43C3-A34B-9C773CCF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1FA1C5-0578-480F-ABEB-18E665EA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C01AD3-717B-4C28-8E13-5857B01C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F553A-2409-4D49-A92B-FA9DA0CE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ibermatica.com/ibermatica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ibermatica.com/ibermatica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E1906-0795-408D-B84D-782C4BC1684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7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3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7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30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536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540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6C795-B96E-4D0E-A9BE-A4571741DF1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5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6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DD153-7BFA-42D0-B92F-781B4D183EA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87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593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597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A4D2E-9373-474B-924C-DAFE2AD4174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28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9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8B9C9-1F63-4EBD-9CF2-FCA6A78C0EA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644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650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654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87DB9-92E3-4A34-9176-5847D95A13A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3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0C11D-6D2B-4A5F-9A16-B272536BE97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9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65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6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1905120" y="64008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79828-D734-46E2-921D-C13A3B45DEE2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4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9FD9F-5CA7-4B01-9877-E989DD87158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1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2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2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92BFA-D475-438B-A550-B7A71198A54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057400" y="228600"/>
            <a:ext cx="2089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ibermatica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linea"/>
          <p:cNvPicPr/>
          <p:nvPr/>
        </p:nvPicPr>
        <p:blipFill>
          <a:blip r:embed="rId11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31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2033640" y="112680"/>
            <a:ext cx="33004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3" descr=""/>
          <p:cNvPicPr/>
          <p:nvPr/>
        </p:nvPicPr>
        <p:blipFill>
          <a:blip r:embed="rId12"/>
          <a:stretch/>
        </p:blipFill>
        <p:spPr>
          <a:xfrm>
            <a:off x="0" y="6438960"/>
            <a:ext cx="1835280" cy="419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5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02DA5-0E73-459E-A13F-07FB8C7B9DD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6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80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86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90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A5734-8572-481E-80C8-1654FF37EC1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ibermatica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linea"/>
          <p:cNvPicPr/>
          <p:nvPr/>
        </p:nvPicPr>
        <p:blipFill>
          <a:blip r:embed="rId11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96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4" descr=""/>
          <p:cNvPicPr/>
          <p:nvPr/>
        </p:nvPicPr>
        <p:blipFill>
          <a:blip r:embed="rId12"/>
          <a:stretch/>
        </p:blipFill>
        <p:spPr>
          <a:xfrm>
            <a:off x="0" y="6438960"/>
            <a:ext cx="1835280" cy="419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97523-FB83-4977-9E45-C7AE0C7C25A1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8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9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B3DA7-0069-4B8C-9BB7-29F9C0F2D9B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24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25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25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C6ABD-76B6-4AF8-A30D-583EE969671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FDE03-545F-4708-A64B-6520C05D894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302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308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312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93B0B-A807-4A95-B8DE-FE9477EEE9F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4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5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92978-B251-4C12-9789-23D9573A686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359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365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36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D3616-A46C-4E49-A0F8-CAC0C42AB356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17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4ADA5-804F-4EA3-A741-A73C31903CA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41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2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42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F5E03-69FD-40D8-8F32-0D16D567062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9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0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82EA0-DE40-4364-80D7-96B55DA91BC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473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79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483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B4FB1-2660-4D1B-85EB-7D5657440DC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22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23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457C1-4E2E-4C18-96A8-5F808A70798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gaupload.com/?d=4XP6DWCZ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hyperlink" Target="http://camtasia-studio.softonic.com/" TargetMode="Externa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rientadoresviu.wikispaces.com/OrientaTe+Videotutoriales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984807"/>
                </a:solidFill>
                <a:latin typeface="Arial"/>
                <a:ea typeface="Arial"/>
              </a:rPr>
              <a:t>¿Qué aportan las NTIC a la Educació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304560" y="337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Presentación de herramientas Digitales para la Educ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Actividad Bloque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2052720"/>
          </a:xfrm>
          <a:prstGeom prst="rect">
            <a:avLst/>
          </a:prstGeom>
          <a:ln w="0">
            <a:noFill/>
          </a:ln>
        </p:spPr>
      </p:pic>
      <p:sp>
        <p:nvSpPr>
          <p:cNvPr id="707" name="Subtitle 2"/>
          <p:cNvSpPr/>
          <p:nvPr/>
        </p:nvSpPr>
        <p:spPr>
          <a:xfrm>
            <a:off x="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Arial"/>
                <a:ea typeface="Arial"/>
              </a:rPr>
              <a:t>Trabajo Elaborado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Arial"/>
                <a:ea typeface="Arial"/>
              </a:rPr>
              <a:t>Amalia Revuelta Cand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7" descr="Nuevo Logo.jpg"/>
          <p:cNvPicPr/>
          <p:nvPr/>
        </p:nvPicPr>
        <p:blipFill>
          <a:blip r:embed="rId2"/>
          <a:stretch/>
        </p:blipFill>
        <p:spPr>
          <a:xfrm>
            <a:off x="6261120" y="4260960"/>
            <a:ext cx="21970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2590560" y="5785920"/>
            <a:ext cx="60958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http://www.eduteka.org/AprendizajeHerramientasDigitales.ph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"/>
          <p:cNvSpPr/>
          <p:nvPr/>
        </p:nvSpPr>
        <p:spPr>
          <a:xfrm>
            <a:off x="76320" y="3352680"/>
            <a:ext cx="23619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linea"/>
          <p:cNvPicPr/>
          <p:nvPr/>
        </p:nvPicPr>
        <p:blipFill>
          <a:blip r:embed="rId1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SAT 4 copia"/>
          <p:cNvPicPr/>
          <p:nvPr/>
        </p:nvPicPr>
        <p:blipFill>
          <a:blip r:embed="rId2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9" descr="flecha"/>
          <p:cNvPicPr/>
          <p:nvPr/>
        </p:nvPicPr>
        <p:blipFill>
          <a:blip r:embed="rId3"/>
          <a:stretch/>
        </p:blipFill>
        <p:spPr>
          <a:xfrm>
            <a:off x="76320" y="522936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81" name="Text Placeholder 1"/>
          <p:cNvSpPr/>
          <p:nvPr/>
        </p:nvSpPr>
        <p:spPr>
          <a:xfrm>
            <a:off x="2743200" y="2038320"/>
            <a:ext cx="60958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ttp://orientadoresviu.wikispaces.com/OrientaTe+Videotu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youtube.com/watch?v=UnqR60B_lNI&amp;feature=player_embed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0" y="83808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336699"/>
                </a:solidFill>
                <a:latin typeface="Arial"/>
              </a:rPr>
              <a:t>¡Felicidades por tu Participación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8"/>
          <p:cNvGrpSpPr/>
          <p:nvPr/>
        </p:nvGrpSpPr>
        <p:grpSpPr>
          <a:xfrm>
            <a:off x="1447920" y="1600200"/>
            <a:ext cx="6476760" cy="5029200"/>
            <a:chOff x="1447920" y="1600200"/>
            <a:chExt cx="6476760" cy="5029200"/>
          </a:xfrm>
        </p:grpSpPr>
        <p:pic>
          <p:nvPicPr>
            <p:cNvPr id="784" name="Picture 6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47676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TextBox 7"/>
            <p:cNvSpPr/>
            <p:nvPr/>
          </p:nvSpPr>
          <p:spPr>
            <a:xfrm>
              <a:off x="2044800" y="1752480"/>
              <a:ext cx="420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¿Sabes qué creo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Box 8"/>
            <p:cNvSpPr/>
            <p:nvPr/>
          </p:nvSpPr>
          <p:spPr>
            <a:xfrm>
              <a:off x="1905120" y="2065320"/>
              <a:ext cx="50292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QUE TANTA HERRAMIENTA TIC, TANTA TECNOLOGÍA Y TANTA WIKI,.. VA A ACABAR CON M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2044800" y="2819160"/>
              <a:ext cx="549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FAMILIA !!!!!!!!!!!!!!!!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0"/>
            <p:cNvSpPr/>
            <p:nvPr/>
          </p:nvSpPr>
          <p:spPr>
            <a:xfrm>
              <a:off x="4419720" y="4038480"/>
              <a:ext cx="3124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CON MI FACEBOOK DE LA VI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0" descr="Pizarra 1.jpg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10080"/>
          </a:xfrm>
          <a:prstGeom prst="rect">
            <a:avLst/>
          </a:prstGeom>
          <a:ln w="0">
            <a:noFill/>
          </a:ln>
        </p:spPr>
      </p:pic>
      <p:sp>
        <p:nvSpPr>
          <p:cNvPr id="710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61760" y="1645920"/>
            <a:ext cx="609588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y utilizar las herramientas tecnológicas más comunes y sus posibilidades de aplicación en el contexto educativo adquiriendo una postura personal rigurosa, crítica e innovadora que enriquezca su experiencia y práctica edu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iciarse en el diseño y producción de contenidos mediante software y webware como recurso form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825880" y="866520"/>
            <a:ext cx="2438280" cy="533160"/>
          </a:xfrm>
          <a:prstGeom prst="rect">
            <a:avLst/>
          </a:prstGeom>
          <a:solidFill>
            <a:srgbClr val="376092">
              <a:alpha val="53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f2f2f2"/>
                </a:solidFill>
                <a:latin typeface="Calibri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457200" y="503712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tiempo es uno de los bienes más preciosos y hay que ser capaz de aprovecharlo... Cualquier sistema que nos ayude a optimizarlo, y más aún si requiere poco esfuerzo, hay que considerarlo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Oval 13"/>
          <p:cNvSpPr/>
          <p:nvPr/>
        </p:nvSpPr>
        <p:spPr>
          <a:xfrm>
            <a:off x="4052880" y="2182680"/>
            <a:ext cx="990720" cy="990720"/>
          </a:xfrm>
          <a:prstGeom prst="ellipse">
            <a:avLst/>
          </a:prstGeom>
          <a:noFill/>
          <a:ln w="76320">
            <a:solidFill>
              <a:srgbClr val="336699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4"/>
          <p:cNvSpPr/>
          <p:nvPr/>
        </p:nvSpPr>
        <p:spPr>
          <a:xfrm>
            <a:off x="2652840" y="1103400"/>
            <a:ext cx="5043240" cy="4968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51080" indent="-1351080" algn="r">
              <a:buClr>
                <a:srgbClr val="ffff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Índice de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5"/>
          <p:cNvSpPr/>
          <p:nvPr/>
        </p:nvSpPr>
        <p:spPr>
          <a:xfrm>
            <a:off x="1295280" y="2133720"/>
            <a:ext cx="990720" cy="990360"/>
          </a:xfrm>
          <a:prstGeom prst="ellipse">
            <a:avLst/>
          </a:prstGeom>
          <a:noFill/>
          <a:ln w="76320">
            <a:solidFill>
              <a:srgbClr val="984807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6"/>
          <p:cNvSpPr/>
          <p:nvPr/>
        </p:nvSpPr>
        <p:spPr>
          <a:xfrm>
            <a:off x="6865920" y="2195640"/>
            <a:ext cx="990720" cy="988920"/>
          </a:xfrm>
          <a:prstGeom prst="ellipse">
            <a:avLst/>
          </a:prstGeom>
          <a:noFill/>
          <a:ln w="76320">
            <a:solidFill>
              <a:srgbClr val="336699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8"/>
          <p:cNvSpPr/>
          <p:nvPr/>
        </p:nvSpPr>
        <p:spPr>
          <a:xfrm>
            <a:off x="554040" y="3735360"/>
            <a:ext cx="2417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9"/>
          <p:cNvSpPr/>
          <p:nvPr/>
        </p:nvSpPr>
        <p:spPr>
          <a:xfrm>
            <a:off x="625320" y="3176640"/>
            <a:ext cx="2346480" cy="49860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Uso educativ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s Dig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0"/>
          <p:cNvSpPr/>
          <p:nvPr/>
        </p:nvSpPr>
        <p:spPr>
          <a:xfrm>
            <a:off x="3483000" y="3220920"/>
            <a:ext cx="22320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CAMT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1"/>
          <p:cNvSpPr/>
          <p:nvPr/>
        </p:nvSpPr>
        <p:spPr>
          <a:xfrm>
            <a:off x="6256440" y="3208320"/>
            <a:ext cx="22860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Mind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3"/>
          <p:cNvSpPr/>
          <p:nvPr/>
        </p:nvSpPr>
        <p:spPr>
          <a:xfrm>
            <a:off x="3483000" y="3701880"/>
            <a:ext cx="2232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 Presentacion de la 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2. Uso y aplicación en la educ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3. Enlace al Video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3"/>
          <p:cNvSpPr/>
          <p:nvPr/>
        </p:nvSpPr>
        <p:spPr>
          <a:xfrm>
            <a:off x="6324480" y="3733920"/>
            <a:ext cx="221796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 Presentacion de la 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2. Uso y aplicación en la educ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3. Enlace al Video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590560" y="1722240"/>
            <a:ext cx="609588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herramientas informáticas cumplen ciertas funciones en los procesos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8"/>
          <p:cNvSpPr/>
          <p:nvPr/>
        </p:nvSpPr>
        <p:spPr>
          <a:xfrm>
            <a:off x="76320" y="3352680"/>
            <a:ext cx="23288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2" descr="SAT 2 copia"/>
          <p:cNvPicPr/>
          <p:nvPr/>
        </p:nvPicPr>
        <p:blipFill>
          <a:blip r:embed="rId1"/>
          <a:stretch/>
        </p:blipFill>
        <p:spPr>
          <a:xfrm>
            <a:off x="19080" y="838080"/>
            <a:ext cx="2386080" cy="2592360"/>
          </a:xfrm>
          <a:prstGeom prst="rect">
            <a:avLst/>
          </a:prstGeom>
          <a:ln w="0">
            <a:noFill/>
          </a:ln>
        </p:spPr>
      </p:pic>
      <p:grpSp>
        <p:nvGrpSpPr>
          <p:cNvPr id="728" name="Freeform 8"/>
          <p:cNvGrpSpPr/>
          <p:nvPr/>
        </p:nvGrpSpPr>
        <p:grpSpPr>
          <a:xfrm>
            <a:off x="2548080" y="3200400"/>
            <a:ext cx="2517480" cy="2136600"/>
            <a:chOff x="2548080" y="3200400"/>
            <a:chExt cx="2517480" cy="2136600"/>
          </a:xfrm>
        </p:grpSpPr>
        <p:pic>
          <p:nvPicPr>
            <p:cNvPr id="729" name="Freeform 8" descr=""/>
            <p:cNvPicPr/>
            <p:nvPr/>
          </p:nvPicPr>
          <p:blipFill>
            <a:blip r:embed="rId2"/>
            <a:stretch/>
          </p:blipFill>
          <p:spPr>
            <a:xfrm>
              <a:off x="2548080" y="3200400"/>
              <a:ext cx="251748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2666880" y="3322800"/>
              <a:ext cx="2286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izar qué queremos Enseñar con la herramienta: Aprender, Investigar, Colaborar, Tomar Decisiones, etc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9"/>
          <p:cNvSpPr/>
          <p:nvPr/>
        </p:nvSpPr>
        <p:spPr>
          <a:xfrm>
            <a:off x="6172200" y="304812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Una vez identificado lo que queremos enseñar debemos seleccionar, dentro del grupo de herramientas y aplicaciones disponibles, cuál se ajusta mejor al contexto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us 11"/>
          <p:cNvSpPr/>
          <p:nvPr/>
        </p:nvSpPr>
        <p:spPr>
          <a:xfrm>
            <a:off x="4800600" y="3352680"/>
            <a:ext cx="1600200" cy="16416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o educativo de Herramient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9" descr="flecha"/>
          <p:cNvPicPr/>
          <p:nvPr/>
        </p:nvPicPr>
        <p:blipFill>
          <a:blip r:embed="rId4"/>
          <a:stretch/>
        </p:blipFill>
        <p:spPr>
          <a:xfrm>
            <a:off x="76320" y="4848120"/>
            <a:ext cx="2476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1904760" y="406224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megaupload.com/?d=4XP6DWCZ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SAT 2 copia"/>
          <p:cNvPicPr/>
          <p:nvPr/>
        </p:nvPicPr>
        <p:blipFill>
          <a:blip r:embed="rId2"/>
          <a:stretch/>
        </p:blipFill>
        <p:spPr>
          <a:xfrm>
            <a:off x="19080" y="692280"/>
            <a:ext cx="2386080" cy="259236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18"/>
          <p:cNvSpPr/>
          <p:nvPr/>
        </p:nvSpPr>
        <p:spPr>
          <a:xfrm>
            <a:off x="76320" y="3352680"/>
            <a:ext cx="23288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9" descr="flecha"/>
          <p:cNvPicPr/>
          <p:nvPr/>
        </p:nvPicPr>
        <p:blipFill>
          <a:blip r:embed="rId4"/>
          <a:stretch/>
        </p:blipFill>
        <p:spPr>
          <a:xfrm>
            <a:off x="76320" y="530532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5"/>
          <a:stretch/>
        </p:blipFill>
        <p:spPr>
          <a:xfrm>
            <a:off x="6019920" y="2100240"/>
            <a:ext cx="2827080" cy="186228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7"/>
          <p:cNvSpPr/>
          <p:nvPr/>
        </p:nvSpPr>
        <p:spPr>
          <a:xfrm>
            <a:off x="2666880" y="23922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tasia 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 de utilidades con las que registrar y editar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8"/>
          <p:cNvSpPr/>
          <p:nvPr/>
        </p:nvSpPr>
        <p:spPr>
          <a:xfrm>
            <a:off x="2590920" y="477828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nd Manag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stiona tus proyectos con mapas organizativo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9" descr=""/>
          <p:cNvPicPr/>
          <p:nvPr/>
        </p:nvPicPr>
        <p:blipFill>
          <a:blip r:embed="rId6"/>
          <a:stretch/>
        </p:blipFill>
        <p:spPr>
          <a:xfrm>
            <a:off x="6324480" y="4541760"/>
            <a:ext cx="2362320" cy="204156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12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o educativo de Herramient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1"/>
          <p:cNvSpPr/>
          <p:nvPr/>
        </p:nvSpPr>
        <p:spPr>
          <a:xfrm>
            <a:off x="2690280" y="165564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camtasia-studio.softonic.c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2590920" y="1722600"/>
            <a:ext cx="63244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herramienta permite grabar cualquier a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xplicar el funcionamiento de un programa informático. Una manera fácil, pues, de crear videotu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ompartir un problema tecnológico y explicárselo a sop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2" descr="SAT 3 copia"/>
          <p:cNvPicPr/>
          <p:nvPr/>
        </p:nvPicPr>
        <p:blipFill>
          <a:blip r:embed="rId1"/>
          <a:stretch/>
        </p:blipFill>
        <p:spPr>
          <a:xfrm>
            <a:off x="0" y="838080"/>
            <a:ext cx="2301840" cy="2502000"/>
          </a:xfrm>
          <a:prstGeom prst="rect">
            <a:avLst/>
          </a:prstGeom>
          <a:ln w="0">
            <a:noFill/>
          </a:ln>
        </p:spPr>
      </p:pic>
      <p:sp>
        <p:nvSpPr>
          <p:cNvPr id="749" name="Rectangle 18"/>
          <p:cNvSpPr/>
          <p:nvPr/>
        </p:nvSpPr>
        <p:spPr>
          <a:xfrm>
            <a:off x="76320" y="3352680"/>
            <a:ext cx="222552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 CAMT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linea"/>
          <p:cNvPicPr/>
          <p:nvPr/>
        </p:nvPicPr>
        <p:blipFill>
          <a:blip r:embed="rId2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9" descr="flecha"/>
          <p:cNvPicPr/>
          <p:nvPr/>
        </p:nvPicPr>
        <p:blipFill>
          <a:blip r:embed="rId3"/>
          <a:stretch/>
        </p:blipFill>
        <p:spPr>
          <a:xfrm>
            <a:off x="76320" y="457200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CAM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9"/>
          <p:cNvSpPr/>
          <p:nvPr/>
        </p:nvSpPr>
        <p:spPr>
          <a:xfrm>
            <a:off x="2438280" y="5626080"/>
            <a:ext cx="65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ernández-Quijada, David; Bonet, Montse (2009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amtasia Studio, creación de animaciones multimedia educativas. @tic. Revista d’innovació educativa. (nº 3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4"/>
          <a:stretch/>
        </p:blipFill>
        <p:spPr>
          <a:xfrm>
            <a:off x="7074000" y="6330960"/>
            <a:ext cx="16128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2590560" y="2636640"/>
            <a:ext cx="60958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rientadoresviu.wikispaces.com/OrientaTe+Videotu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youtube.com/watch#!v=WwbrygX_Yq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SAT 3 copia"/>
          <p:cNvPicPr/>
          <p:nvPr/>
        </p:nvPicPr>
        <p:blipFill>
          <a:blip r:embed="rId2"/>
          <a:stretch/>
        </p:blipFill>
        <p:spPr>
          <a:xfrm>
            <a:off x="0" y="838080"/>
            <a:ext cx="2301840" cy="250200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18"/>
          <p:cNvSpPr/>
          <p:nvPr/>
        </p:nvSpPr>
        <p:spPr>
          <a:xfrm>
            <a:off x="76320" y="3352680"/>
            <a:ext cx="222552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5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CAM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19" descr="flecha"/>
          <p:cNvPicPr/>
          <p:nvPr/>
        </p:nvPicPr>
        <p:blipFill>
          <a:blip r:embed="rId4"/>
          <a:stretch/>
        </p:blipFill>
        <p:spPr>
          <a:xfrm>
            <a:off x="76320" y="5305320"/>
            <a:ext cx="2476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2590560" y="1722240"/>
            <a:ext cx="609588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rramientas interactivas de razonamiento que ayuda a los estudiantes 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" descr="SAT 4 copia"/>
          <p:cNvPicPr/>
          <p:nvPr/>
        </p:nvPicPr>
        <p:blipFill>
          <a:blip r:embed="rId1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8"/>
          <p:cNvSpPr/>
          <p:nvPr/>
        </p:nvSpPr>
        <p:spPr>
          <a:xfrm>
            <a:off x="76320" y="3352680"/>
            <a:ext cx="220968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" descr="linea"/>
          <p:cNvPicPr/>
          <p:nvPr/>
        </p:nvPicPr>
        <p:blipFill>
          <a:blip r:embed="rId2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19" descr="flecha"/>
          <p:cNvPicPr/>
          <p:nvPr/>
        </p:nvPicPr>
        <p:blipFill>
          <a:blip r:embed="rId3"/>
          <a:stretch/>
        </p:blipFill>
        <p:spPr>
          <a:xfrm>
            <a:off x="76320" y="4848120"/>
            <a:ext cx="247680" cy="2574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8"/>
          <p:cNvSpPr/>
          <p:nvPr/>
        </p:nvSpPr>
        <p:spPr>
          <a:xfrm>
            <a:off x="2590920" y="260208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denar y prioriza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de un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rui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rgumentos bien raz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factores que influyen o impactan un problema o situación y a comprender cómo esos factores interactúan unos con otros en relaciones de causa-efec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ualiz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ediante “mapas “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8"/>
          <p:cNvSpPr/>
          <p:nvPr/>
        </p:nvSpPr>
        <p:spPr>
          <a:xfrm>
            <a:off x="76320" y="3352680"/>
            <a:ext cx="23619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" descr="linea"/>
          <p:cNvPicPr/>
          <p:nvPr/>
        </p:nvPicPr>
        <p:blipFill>
          <a:blip r:embed="rId1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SAT 4 copia"/>
          <p:cNvPicPr/>
          <p:nvPr/>
        </p:nvPicPr>
        <p:blipFill>
          <a:blip r:embed="rId2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9" descr="flecha"/>
          <p:cNvPicPr/>
          <p:nvPr/>
        </p:nvPicPr>
        <p:blipFill>
          <a:blip r:embed="rId3"/>
          <a:stretch/>
        </p:blipFill>
        <p:spPr>
          <a:xfrm>
            <a:off x="76320" y="522936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10"/>
          <p:cNvSpPr/>
          <p:nvPr/>
        </p:nvSpPr>
        <p:spPr>
          <a:xfrm>
            <a:off x="2584440" y="1477800"/>
            <a:ext cx="655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imagen vale más que mil palabras y visibilizar pensamientos e ideas para compartirlos, es el primer paso construir conoc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12" descr="taconfta.gif"/>
          <p:cNvPicPr/>
          <p:nvPr/>
        </p:nvPicPr>
        <p:blipFill>
          <a:blip r:embed="rId4"/>
          <a:stretch/>
        </p:blipFill>
        <p:spPr>
          <a:xfrm>
            <a:off x="2448000" y="2971800"/>
            <a:ext cx="6543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6:13:13Z</dcterms:created>
  <dc:creator>Coaching PD</dc:creator>
  <dc:description/>
  <dc:language>en-US</dc:language>
  <cp:lastModifiedBy>Coaching PD</cp:lastModifiedBy>
  <dcterms:modified xsi:type="dcterms:W3CDTF">2010-10-20T16:35:42Z</dcterms:modified>
  <cp:revision>95</cp:revision>
  <dc:subject/>
  <dc:title>¿Qué aportan las NTIC a la Educación?</dc:title>
</cp:coreProperties>
</file>