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1A5DD-991E-4EFE-B530-610EFD9BDF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C2519-3BB0-4B69-ACFD-AF19002106B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B613B-F3D4-4137-B2A8-7732A5A7B4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850C5-7399-4F4C-A4E0-DBD612AC7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D421-4BEA-4BF2-B46C-5A795F4E41F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458028-3D45-4297-8E20-F4B0F37E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F0858F-EFEF-4DB1-AC17-9F26D0B5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BA4A62-4A42-4701-A602-CCA543F2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34FA9A-2708-47BF-9817-377C894A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DEEC63-1F5A-48DC-90D4-569B932E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7A609E-CF44-4E37-AA6F-88AF828B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E41AB6-B4F4-450A-A511-D2AD5888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DCA275-A17D-47A3-8B6D-C9B50A1F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109088-C049-4485-9EA4-4E533BD8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67E3D3-57E4-4BB5-86FA-81EECE8E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9873-A841-4252-B018-4A132397A76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1D661C-92EE-490B-A535-97DA0246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61D143-BC3C-4329-9D3A-F53DB57E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E106F4-D081-4E3A-BF16-58F80077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979853-EAC3-4ABC-B426-4DBEA47A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7226C6-70DB-4CBA-AA41-2BEC61B4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133F22-854D-4CFC-A5E8-09D7997E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E8CA9F-CE9C-4C99-8B05-847902F2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1FADBC-03CA-4F5F-83BF-C8CE29AC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3F0D24-AF7A-44C3-87D7-FFCBD6E7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5A8486-9680-4557-8B95-EA27D8B7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FBB2C-8172-43C7-9ED3-6B4D007DE80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16C283-C5BE-4521-AC7E-8BD6489F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97A036-368D-40F3-BAFB-D1A86B2C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89B713-DFEE-4076-BF05-2CBD6F5B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3CB266-E150-446E-AAD0-BD072432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627F43-F3A9-4C7F-A16B-29FEE2F5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ADAEB9-96E0-4307-B036-32EED5AD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A4218B-9329-4B12-A194-E9B281B0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C25C79-761C-4110-9B76-6933FEEF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508493-39D0-4E65-9196-26314407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AB503F-46D6-4D63-9733-8FEFFEB2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2FA17-50AB-4BF0-ACF7-9A875DFEF7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668C4E-5762-43ED-8BE4-8FEEF2A2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FAB6EE-F185-4E4C-A8E1-B124507D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FCB5B3-551F-4F07-97C5-8E281D5E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57A81F-F749-4F19-AA5E-3F88FF1C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ECB57B-9F0F-47E5-9CF6-4865DA6C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B618AC-759F-49D8-88C2-A9311AF1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8056EF-F8F6-4433-983E-BD2983EB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74F973-5951-496A-AF57-24C4D250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24BF4F-1060-415E-B7AA-EA4E70F6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1BB199-DFBA-4334-9843-1F02BF8A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5E822-4DB9-4D6F-9326-CA4845B9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4E3FBF-7CCE-45DD-9B9E-828FC868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FDA6A7-45D6-415A-8D64-3E74546B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5937B3-AF35-4757-9D07-E167AD59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283A50-E259-44AE-982A-C6AD80EC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C5BC0D-57F8-4E5C-BCBE-D3E04B79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7BB6C-0A8F-422B-8538-AF085EB9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1F07E-146B-4A52-AEF1-ACC9AF6B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09F7D-470F-451D-BE7B-261A84F1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18DCE-927B-4310-9E7E-ACC3681D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7BEC1-0A8A-43E4-9DCC-9D0D5FBB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7B866-6D09-4A14-B77B-AD363FEA0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841F3-AECF-403C-A0BC-6C5158FC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85D2B-8611-4334-B246-4DC43FD0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BF6D9-B449-4D20-8C3F-0636EE10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EFF20-A62F-4BB4-B0AE-BF41539B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417AE-A1D1-4774-BF41-83C2C66494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797CA-652C-4BAA-BE72-F5CCC6B09A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9BCAB-5C44-409F-956D-B2D8F446E6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7AB45-0C86-4C95-A284-422DB2E7E9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7351C-04F3-4EB0-AD9C-7D249C8966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14031-3833-4477-9525-28D0F3E3B4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B16D-5597-4F5A-9875-063F9DE1AD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089E9-A565-4A31-92F5-86F90E83AB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BDBD0-C84B-4A5F-B1F4-A996B04C4A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07157-1D79-4650-9AE1-46DBED8263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40747-F93B-45C0-8512-03214800DC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CE6FC-458E-4104-BC52-43D32093F1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C4B59-279E-490A-BB5D-5C66B86A19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714AE-4217-48F8-96FA-3F422D294D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DC03-A046-4E11-824A-0BBA0D85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3C95-9386-44BB-8A88-F870C15E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D03E2-B5BC-4D99-B619-0A2FBA39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1C7CC-A601-4F48-92C9-AC3C1E6BB7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C6A42-FDAA-4035-ADEA-5C66DC7E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81806-7BEF-4E24-9152-5428A6CC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706D3-32DF-424E-A63A-58DD8C50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38FDD-7F50-4785-A38B-E2119CEF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B7EF-575D-40FC-926A-714D0075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8B89-708B-4669-B3CB-D6644068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63CDB-A410-4F01-8811-E8D5AB32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A7B20-690F-4354-822B-041F21D9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BC31D-2E8D-4E30-B579-2983CCFF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2733D-123C-46C4-BB70-ECA7D32E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1FB5E-B9E2-4E81-A5B3-109B4AFE09C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FC492-4835-4609-ACD8-5D1B17DE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01EBD-DEB6-46F4-B2AB-E532B5B4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02F31-A746-4C7C-B55B-54DA925A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59FDC-1F60-4DF9-9188-6F638344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BD7CE-83E8-46EC-8A01-5F4B03FB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5EDFF-D214-4542-AAF9-3D62375C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96B7C-238F-40C4-88F5-B0C4E136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42094-6F93-42BD-892A-366C2F60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C8C57-07BA-447C-A86D-DC568FB1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08914-AD99-4080-9EED-AA223D44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3151-97F4-42C2-A3D2-43A6EF5D3E4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E7F4C-DB92-4485-A706-D1EFD2CA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9637C-5CD3-4478-AEA9-A0825A45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3147D-76D4-4FD6-B202-B1483FCA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BF22D-2EFB-469F-BED6-0B98FFD9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1AFD0-78FC-44CB-A2DF-58974D7D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67ED2-DEE8-4E08-A8F3-513D53EE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2C00B-2D85-4074-ADF2-AD4C34D5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6ED43-D77B-4487-AC3A-DD3CFFD9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08383-A776-4DC6-9CF2-D2F1A2CF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2338D-09B7-46FF-95F9-817E391D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6A312-A518-4496-BBBB-1EB79C2A7FF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AAF7C-06A4-4AAD-A856-2E01BF82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BF981-0537-4E6D-B951-883259E5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A6139-94DA-4261-B6AE-9FD17909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DE561B-D376-403B-90CB-2904A3557F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3C3A2-4971-4C54-AA71-1E36449B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B2F15-FD1A-4DED-BC74-D09C9A22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3E5B5B-E6CF-4D99-986A-17686DDC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5B7188-325F-4DED-BD22-981DF715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6923E-EB1F-4060-9147-7CBD8907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C14970-65FF-4F23-9BC9-71668CBE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CFB40-B4D7-4C9B-9AC1-CBD45E8CF1D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65E29-8492-43CE-B533-CC851C15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1040B-6A62-419F-B880-6981A196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62DE7A-4218-4050-A0E5-CA07CCF8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8D24A-4AA4-409A-A5B1-6E1AEA06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7728C-D81C-4433-BDD6-ECEA20DDF2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660CF9-387E-45AF-8FA4-BDC7D426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331256-50CE-4CA3-A376-3657CAF1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F001E3-4C16-42C1-A3F3-E125026F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71957B-5127-43FF-A0EB-10C037E9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7C0E7F-B5F0-4D1A-B07F-B3AE4CA7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FAE2C-EED0-4506-91C0-0290B11ECC2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9D5411-6DDC-45A8-BADB-E6E74B55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D229A-04A2-4AEB-A2B3-53976BAD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4ADDB-AEAD-4F79-AF96-9B894E08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24C23-663C-404C-B5D5-9F2350A7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590560" y="4086720"/>
            <a:ext cx="609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2B1783-7BB6-4848-B1CB-53F8A122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714280" y="172260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259056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714280" y="4086720"/>
            <a:ext cx="297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F51A0A-809B-45A2-AAA0-1C381E95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712920" y="172260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259056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4651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712920" y="4086720"/>
            <a:ext cx="196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31542D-7518-4CB2-A2FD-0D4A5683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391F6E-73F6-487A-B10E-471782BF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EA2066-EFC1-452F-8C5C-742FB746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3F609B-0966-4235-9E11-129E9809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hyperlink" Target="http://www.ibermatica.com/ibermatica" TargetMode="Externa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hyperlink" Target="http://www.ibermatica.com/ibermatica" TargetMode="Externa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http://orientadoresonline.wikispaces.com/" TargetMode="External"/><Relationship Id="rId3" Type="http://schemas.openxmlformats.org/officeDocument/2006/relationships/hyperlink" Target="http://www.ibermatica.com/ibermatica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2D85F-69E4-4814-85A3-472BE20D813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7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3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7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30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536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540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440AA-4400-4A00-9885-248FB38F9E51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25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6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A2699-28C9-4751-8266-3E3E4F320CB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87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593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597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89974-5A53-43F2-BEF3-AC6A644FF67C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28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sldNum" idx="29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A8012-D84B-4446-B239-BD18C609BB0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644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650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654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DC45B-B815-4196-917D-4197DF2F1795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3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4380C-A588-492C-A150-EC0431A0812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59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65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6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1905120" y="64008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DCCAA-CA02-4D27-8905-C6C82297E37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4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5839B-C9B2-4778-A16B-46EE0102D39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1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2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2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F9B16-C250-4EEA-9437-EAF4EE1E257C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057400" y="228600"/>
            <a:ext cx="2089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ibermatica.com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linea"/>
          <p:cNvPicPr/>
          <p:nvPr/>
        </p:nvPicPr>
        <p:blipFill>
          <a:blip r:embed="rId11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31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2033640" y="112680"/>
            <a:ext cx="33004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3" descr=""/>
          <p:cNvPicPr/>
          <p:nvPr/>
        </p:nvPicPr>
        <p:blipFill>
          <a:blip r:embed="rId12"/>
          <a:stretch/>
        </p:blipFill>
        <p:spPr>
          <a:xfrm>
            <a:off x="0" y="6438960"/>
            <a:ext cx="1835280" cy="419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5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028BF-6DCA-447F-A969-BA609E8FCA7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6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80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86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190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CDFF2-08A7-45A6-A811-1BC8E8B7A506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4" descr="ibermatica.com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linea"/>
          <p:cNvPicPr/>
          <p:nvPr/>
        </p:nvPicPr>
        <p:blipFill>
          <a:blip r:embed="rId11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196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4" descr=""/>
          <p:cNvPicPr/>
          <p:nvPr/>
        </p:nvPicPr>
        <p:blipFill>
          <a:blip r:embed="rId12"/>
          <a:stretch/>
        </p:blipFill>
        <p:spPr>
          <a:xfrm>
            <a:off x="0" y="6438960"/>
            <a:ext cx="1835280" cy="419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77E22-18A7-4029-835C-A5D96DF73485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8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9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8A02B-9429-4195-BE70-0513BD7F6317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24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25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25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7EDC2-878B-4D25-9134-96D3B643580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F2D08-E7E1-42A1-94F1-1E4B200B3CA3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302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308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312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4E079-1BEB-4B3D-B0AC-3818447E3112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4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5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BA73A-60C9-4E8A-AE03-2F9E860E4A0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359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365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369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E9FE9-FA99-4221-8A38-622DFE992AB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17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9BEC0-8671-4671-B503-168D0489B8C7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415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421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425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7A47B-6705-4432-BCAA-D57CF717D505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9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0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F1CCC-B890-445A-8974-9AF766CB39FD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0"/>
          <p:cNvSpPr/>
          <p:nvPr/>
        </p:nvSpPr>
        <p:spPr>
          <a:xfrm>
            <a:off x="2057400" y="249120"/>
            <a:ext cx="190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Herramientas Digit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200" spc="-1" strike="noStrike">
                <a:solidFill>
                  <a:srgbClr val="292929"/>
                </a:solidFill>
                <a:latin typeface="Arial"/>
              </a:rPr>
              <a:t>para la 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5181480" y="304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doresviu.wikispaces.com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4" descr="ibermatic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68920" y="3043080"/>
            <a:ext cx="1904760" cy="7718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5" descr="linea"/>
          <p:cNvPicPr/>
          <p:nvPr/>
        </p:nvPicPr>
        <p:blipFill>
          <a:blip r:embed="rId5"/>
          <a:stretch/>
        </p:blipFill>
        <p:spPr>
          <a:xfrm>
            <a:off x="5024520" y="6767640"/>
            <a:ext cx="4519440" cy="7920"/>
          </a:xfrm>
          <a:prstGeom prst="rect">
            <a:avLst/>
          </a:prstGeom>
          <a:ln w="0">
            <a:noFill/>
          </a:ln>
        </p:spPr>
      </p:pic>
      <p:sp>
        <p:nvSpPr>
          <p:cNvPr id="473" name="Line 16"/>
          <p:cNvSpPr/>
          <p:nvPr/>
        </p:nvSpPr>
        <p:spPr>
          <a:xfrm>
            <a:off x="1149480" y="6553080"/>
            <a:ext cx="2590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2033640" y="112680"/>
            <a:ext cx="3298680" cy="725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9"/>
          <p:cNvSpPr/>
          <p:nvPr/>
        </p:nvSpPr>
        <p:spPr>
          <a:xfrm>
            <a:off x="5334120" y="125280"/>
            <a:ext cx="3666960" cy="7128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0"/>
          <p:cNvSpPr/>
          <p:nvPr/>
        </p:nvSpPr>
        <p:spPr>
          <a:xfrm>
            <a:off x="9032760" y="1270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6"/>
          <p:cNvSpPr/>
          <p:nvPr/>
        </p:nvSpPr>
        <p:spPr>
          <a:xfrm>
            <a:off x="2590920" y="1006560"/>
            <a:ext cx="6143400" cy="593640"/>
          </a:xfrm>
          <a:prstGeom prst="rect">
            <a:avLst/>
          </a:prstGeom>
          <a:solidFill>
            <a:srgbClr val="3366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1" descr="Nuevo Logo.jpg"/>
          <p:cNvPicPr/>
          <p:nvPr/>
        </p:nvPicPr>
        <p:blipFill>
          <a:blip r:embed="rId6"/>
          <a:stretch/>
        </p:blipFill>
        <p:spPr>
          <a:xfrm>
            <a:off x="8193240" y="12528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479" name="Line 20"/>
          <p:cNvSpPr/>
          <p:nvPr/>
        </p:nvSpPr>
        <p:spPr>
          <a:xfrm>
            <a:off x="815328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0"/>
          <p:cNvSpPr/>
          <p:nvPr/>
        </p:nvSpPr>
        <p:spPr>
          <a:xfrm>
            <a:off x="5332320" y="112680"/>
            <a:ext cx="1800" cy="71280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6" descr=""/>
          <p:cNvPicPr/>
          <p:nvPr/>
        </p:nvPicPr>
        <p:blipFill>
          <a:blip r:embed="rId7"/>
          <a:stretch/>
        </p:blipFill>
        <p:spPr>
          <a:xfrm>
            <a:off x="22320" y="165240"/>
            <a:ext cx="2009520" cy="6350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5" descr=""/>
          <p:cNvPicPr/>
          <p:nvPr/>
        </p:nvPicPr>
        <p:blipFill>
          <a:blip r:embed="rId8"/>
          <a:stretch/>
        </p:blipFill>
        <p:spPr>
          <a:xfrm>
            <a:off x="4240080" y="119160"/>
            <a:ext cx="1013040" cy="606240"/>
          </a:xfrm>
          <a:prstGeom prst="rect">
            <a:avLst/>
          </a:prstGeom>
          <a:ln w="0">
            <a:noFill/>
          </a:ln>
        </p:spPr>
      </p:pic>
      <p:sp>
        <p:nvSpPr>
          <p:cNvPr id="483" name="Line 20"/>
          <p:cNvSpPr/>
          <p:nvPr/>
        </p:nvSpPr>
        <p:spPr>
          <a:xfrm>
            <a:off x="2031840" y="125280"/>
            <a:ext cx="1800" cy="712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9"/>
          <p:cNvSpPr/>
          <p:nvPr/>
        </p:nvSpPr>
        <p:spPr>
          <a:xfrm>
            <a:off x="22320" y="114480"/>
            <a:ext cx="2009520" cy="712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1905120" y="652320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2590560" y="1722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6EB5C-9EA7-4A42-9B63-A13D4AF5ED71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22"/>
          </p:nvPr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sldNum" idx="23"/>
          </p:nvPr>
        </p:nvSpPr>
        <p:spPr>
          <a:xfrm>
            <a:off x="845820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FB031-37CF-480B-8316-C2941DBA0C33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gaupload.com/?d=4XP6DWCZ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hyperlink" Target="http://camtasia-studio.softonic.com/" TargetMode="External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rientadoresviu.wikispaces.com/OrientaTe+Videotutoriales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984807"/>
                </a:solidFill>
                <a:latin typeface="Arial"/>
                <a:ea typeface="Arial"/>
              </a:rPr>
              <a:t>¿Qué aportan las NTIC a la Educació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304560" y="3374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Presentación de herramientas Digitales para la Educ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898989"/>
                </a:solidFill>
                <a:latin typeface="Arial"/>
              </a:rPr>
              <a:t>Actividad Bloque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3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2052720"/>
          </a:xfrm>
          <a:prstGeom prst="rect">
            <a:avLst/>
          </a:prstGeom>
          <a:ln w="0">
            <a:noFill/>
          </a:ln>
        </p:spPr>
      </p:pic>
      <p:sp>
        <p:nvSpPr>
          <p:cNvPr id="707" name="Subtitle 2"/>
          <p:cNvSpPr/>
          <p:nvPr/>
        </p:nvSpPr>
        <p:spPr>
          <a:xfrm>
            <a:off x="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Arial"/>
                <a:ea typeface="Arial"/>
              </a:rPr>
              <a:t>Trabajo Elaborado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Arial"/>
                <a:ea typeface="Arial"/>
              </a:rPr>
              <a:t>Amalia Revuelta Cand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7" descr="Nuevo Logo.jpg"/>
          <p:cNvPicPr/>
          <p:nvPr/>
        </p:nvPicPr>
        <p:blipFill>
          <a:blip r:embed="rId2"/>
          <a:stretch/>
        </p:blipFill>
        <p:spPr>
          <a:xfrm>
            <a:off x="6261120" y="4260960"/>
            <a:ext cx="21970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2590560" y="5785920"/>
            <a:ext cx="60958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http://www.eduteka.org/AprendizajeHerramientasDigitales.ph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8"/>
          <p:cNvSpPr/>
          <p:nvPr/>
        </p:nvSpPr>
        <p:spPr>
          <a:xfrm>
            <a:off x="76320" y="3352680"/>
            <a:ext cx="23619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" descr="linea"/>
          <p:cNvPicPr/>
          <p:nvPr/>
        </p:nvPicPr>
        <p:blipFill>
          <a:blip r:embed="rId1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2" descr="SAT 4 copia"/>
          <p:cNvPicPr/>
          <p:nvPr/>
        </p:nvPicPr>
        <p:blipFill>
          <a:blip r:embed="rId2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9" descr="flecha"/>
          <p:cNvPicPr/>
          <p:nvPr/>
        </p:nvPicPr>
        <p:blipFill>
          <a:blip r:embed="rId3"/>
          <a:stretch/>
        </p:blipFill>
        <p:spPr>
          <a:xfrm>
            <a:off x="76320" y="522936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81" name="Text Placeholder 1"/>
          <p:cNvSpPr/>
          <p:nvPr/>
        </p:nvSpPr>
        <p:spPr>
          <a:xfrm>
            <a:off x="2743200" y="2038320"/>
            <a:ext cx="609588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http://orientadoresviu.wikispaces.com/OrientaTe+Videotu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youtube.com/watch?v=UnqR60B_lNI&amp;feature=player_embed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0" y="83808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336699"/>
                </a:solidFill>
                <a:latin typeface="Arial"/>
              </a:rPr>
              <a:t>¡Felicidades por tu Participación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8"/>
          <p:cNvGrpSpPr/>
          <p:nvPr/>
        </p:nvGrpSpPr>
        <p:grpSpPr>
          <a:xfrm>
            <a:off x="1447920" y="1600200"/>
            <a:ext cx="6476760" cy="5029200"/>
            <a:chOff x="1447920" y="1600200"/>
            <a:chExt cx="6476760" cy="5029200"/>
          </a:xfrm>
        </p:grpSpPr>
        <p:pic>
          <p:nvPicPr>
            <p:cNvPr id="784" name="Picture 6" descr=""/>
            <p:cNvPicPr/>
            <p:nvPr/>
          </p:nvPicPr>
          <p:blipFill>
            <a:blip r:embed="rId1"/>
            <a:stretch/>
          </p:blipFill>
          <p:spPr>
            <a:xfrm>
              <a:off x="1447920" y="1600200"/>
              <a:ext cx="647676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TextBox 7"/>
            <p:cNvSpPr/>
            <p:nvPr/>
          </p:nvSpPr>
          <p:spPr>
            <a:xfrm>
              <a:off x="2044800" y="1752480"/>
              <a:ext cx="4203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¿Sabes qué creo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Box 8"/>
            <p:cNvSpPr/>
            <p:nvPr/>
          </p:nvSpPr>
          <p:spPr>
            <a:xfrm>
              <a:off x="1905120" y="2065320"/>
              <a:ext cx="50292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QUE TANTA HERRAMIENTA TIC, TANTA TECNOLOGÍA Y TANTA WIKI,.. VA A ACABAR CON M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9"/>
            <p:cNvSpPr/>
            <p:nvPr/>
          </p:nvSpPr>
          <p:spPr>
            <a:xfrm>
              <a:off x="2044800" y="2819160"/>
              <a:ext cx="549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FAMILIA !!!!!!!!!!!!!!!!!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0"/>
            <p:cNvSpPr/>
            <p:nvPr/>
          </p:nvSpPr>
          <p:spPr>
            <a:xfrm>
              <a:off x="4419720" y="4038480"/>
              <a:ext cx="3124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Lucida Handwriting"/>
                  <a:ea typeface="Lucida Handwriting"/>
                </a:rPr>
                <a:t>CON MI FACEBOOK DE LA VI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0" descr="Pizarra 1.jpg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10080"/>
          </a:xfrm>
          <a:prstGeom prst="rect">
            <a:avLst/>
          </a:prstGeom>
          <a:ln w="0">
            <a:noFill/>
          </a:ln>
        </p:spPr>
      </p:pic>
      <p:sp>
        <p:nvSpPr>
          <p:cNvPr id="710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61760" y="1645920"/>
            <a:ext cx="609588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ocer y utilizar las herramientas tecnológicas más comunes y sus posibilidades de aplicación en el contexto educativo adquiriendo una postura personal rigurosa, crítica e innovadora que enriquezca su experiencia y práctica educ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iciarse en el diseño y producción de contenidos mediante software y webware como recurso form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825880" y="866520"/>
            <a:ext cx="2438280" cy="533160"/>
          </a:xfrm>
          <a:prstGeom prst="rect">
            <a:avLst/>
          </a:prstGeom>
          <a:solidFill>
            <a:srgbClr val="376092">
              <a:alpha val="53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f2f2f2"/>
                </a:solidFill>
                <a:latin typeface="Calibri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457200" y="503712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tiempo es uno de los bienes más preciosos y hay que ser capaz de aprovecharlo... Cualquier sistema que nos ayude a optimizarlo, y más aún si requiere poco esfuerzo, hay que considerarlo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Oval 13"/>
          <p:cNvSpPr/>
          <p:nvPr/>
        </p:nvSpPr>
        <p:spPr>
          <a:xfrm>
            <a:off x="4052880" y="2182680"/>
            <a:ext cx="990720" cy="990720"/>
          </a:xfrm>
          <a:prstGeom prst="ellipse">
            <a:avLst/>
          </a:prstGeom>
          <a:noFill/>
          <a:ln w="76320">
            <a:solidFill>
              <a:srgbClr val="336699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4"/>
          <p:cNvSpPr/>
          <p:nvPr/>
        </p:nvSpPr>
        <p:spPr>
          <a:xfrm>
            <a:off x="2652840" y="1103400"/>
            <a:ext cx="5043240" cy="4968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351080" indent="-1351080" algn="r">
              <a:buClr>
                <a:srgbClr val="ffff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Índice de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15"/>
          <p:cNvSpPr/>
          <p:nvPr/>
        </p:nvSpPr>
        <p:spPr>
          <a:xfrm>
            <a:off x="1295280" y="2133720"/>
            <a:ext cx="990720" cy="990360"/>
          </a:xfrm>
          <a:prstGeom prst="ellipse">
            <a:avLst/>
          </a:prstGeom>
          <a:noFill/>
          <a:ln w="76320">
            <a:solidFill>
              <a:srgbClr val="984807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16"/>
          <p:cNvSpPr/>
          <p:nvPr/>
        </p:nvSpPr>
        <p:spPr>
          <a:xfrm>
            <a:off x="6865920" y="2195640"/>
            <a:ext cx="990720" cy="988920"/>
          </a:xfrm>
          <a:prstGeom prst="ellipse">
            <a:avLst/>
          </a:prstGeom>
          <a:noFill/>
          <a:ln w="76320">
            <a:solidFill>
              <a:srgbClr val="336699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5f5f5f"/>
                </a:solidFill>
                <a:latin typeface="Arial Rounded MT Bold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8"/>
          <p:cNvSpPr/>
          <p:nvPr/>
        </p:nvSpPr>
        <p:spPr>
          <a:xfrm>
            <a:off x="554040" y="3735360"/>
            <a:ext cx="241776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9"/>
          <p:cNvSpPr/>
          <p:nvPr/>
        </p:nvSpPr>
        <p:spPr>
          <a:xfrm>
            <a:off x="625320" y="3176640"/>
            <a:ext cx="2346480" cy="49860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Uso educativ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s Digi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0"/>
          <p:cNvSpPr/>
          <p:nvPr/>
        </p:nvSpPr>
        <p:spPr>
          <a:xfrm>
            <a:off x="3483000" y="3220920"/>
            <a:ext cx="2232000" cy="4572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CAMT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1"/>
          <p:cNvSpPr/>
          <p:nvPr/>
        </p:nvSpPr>
        <p:spPr>
          <a:xfrm>
            <a:off x="6256440" y="3208320"/>
            <a:ext cx="2286000" cy="4572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Herramie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Mind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3"/>
          <p:cNvSpPr/>
          <p:nvPr/>
        </p:nvSpPr>
        <p:spPr>
          <a:xfrm>
            <a:off x="3483000" y="3701880"/>
            <a:ext cx="2232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 Presentacion de la Herrami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2. Uso y aplicación en la educ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3. Enlace al Video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3"/>
          <p:cNvSpPr/>
          <p:nvPr/>
        </p:nvSpPr>
        <p:spPr>
          <a:xfrm>
            <a:off x="6324480" y="3733920"/>
            <a:ext cx="221796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 Presentacion de la Herrami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2. Uso y aplicación en la educ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3. Enlace al Video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2590560" y="1722240"/>
            <a:ext cx="609588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herramientas informáticas cumplen ciertas funciones en los procesos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ooter Placeholder 4"/>
          <p:cNvSpPr/>
          <p:nvPr/>
        </p:nvSpPr>
        <p:spPr>
          <a:xfrm>
            <a:off x="1752480" y="637056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262626"/>
                </a:solidFill>
                <a:latin typeface="Calibri"/>
              </a:rPr>
              <a:t>Seminario Transversal: Sociedad, Tecnología y Educación. Bloque 2: ¿Qué aportan las NTIC a la Educ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8"/>
          <p:cNvSpPr/>
          <p:nvPr/>
        </p:nvSpPr>
        <p:spPr>
          <a:xfrm>
            <a:off x="76320" y="3352680"/>
            <a:ext cx="23288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2" descr="SAT 2 copia"/>
          <p:cNvPicPr/>
          <p:nvPr/>
        </p:nvPicPr>
        <p:blipFill>
          <a:blip r:embed="rId1"/>
          <a:stretch/>
        </p:blipFill>
        <p:spPr>
          <a:xfrm>
            <a:off x="19080" y="838080"/>
            <a:ext cx="2386080" cy="2592360"/>
          </a:xfrm>
          <a:prstGeom prst="rect">
            <a:avLst/>
          </a:prstGeom>
          <a:ln w="0">
            <a:noFill/>
          </a:ln>
        </p:spPr>
      </p:pic>
      <p:grpSp>
        <p:nvGrpSpPr>
          <p:cNvPr id="728" name="Freeform 8"/>
          <p:cNvGrpSpPr/>
          <p:nvPr/>
        </p:nvGrpSpPr>
        <p:grpSpPr>
          <a:xfrm>
            <a:off x="2548080" y="3200400"/>
            <a:ext cx="2517480" cy="2136600"/>
            <a:chOff x="2548080" y="3200400"/>
            <a:chExt cx="2517480" cy="2136600"/>
          </a:xfrm>
        </p:grpSpPr>
        <p:pic>
          <p:nvPicPr>
            <p:cNvPr id="729" name="Freeform 8" descr=""/>
            <p:cNvPicPr/>
            <p:nvPr/>
          </p:nvPicPr>
          <p:blipFill>
            <a:blip r:embed="rId2"/>
            <a:stretch/>
          </p:blipFill>
          <p:spPr>
            <a:xfrm>
              <a:off x="2548080" y="3200400"/>
              <a:ext cx="251748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2666880" y="3322800"/>
              <a:ext cx="2286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izar qué queremos Enseñar con la herramienta: Aprender, Investigar, Colaborar, Tomar Decisiones, etc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9"/>
          <p:cNvSpPr/>
          <p:nvPr/>
        </p:nvSpPr>
        <p:spPr>
          <a:xfrm>
            <a:off x="6172200" y="304812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Una vez identificado lo que queremos enseñar debemos seleccionar, dentro del grupo de herramientas y aplicaciones disponibles, cuál se ajusta mejor al contexto de 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us 11"/>
          <p:cNvSpPr/>
          <p:nvPr/>
        </p:nvSpPr>
        <p:spPr>
          <a:xfrm>
            <a:off x="4800600" y="3352680"/>
            <a:ext cx="1600200" cy="164160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o educativo de Herramient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9" descr="flecha"/>
          <p:cNvPicPr/>
          <p:nvPr/>
        </p:nvPicPr>
        <p:blipFill>
          <a:blip r:embed="rId4"/>
          <a:stretch/>
        </p:blipFill>
        <p:spPr>
          <a:xfrm>
            <a:off x="76320" y="4848120"/>
            <a:ext cx="2476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1904760" y="406224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megaupload.com/?d=4XP6DWCZ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2" descr="SAT 2 copia"/>
          <p:cNvPicPr/>
          <p:nvPr/>
        </p:nvPicPr>
        <p:blipFill>
          <a:blip r:embed="rId2"/>
          <a:stretch/>
        </p:blipFill>
        <p:spPr>
          <a:xfrm>
            <a:off x="19080" y="692280"/>
            <a:ext cx="2386080" cy="259236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18"/>
          <p:cNvSpPr/>
          <p:nvPr/>
        </p:nvSpPr>
        <p:spPr>
          <a:xfrm>
            <a:off x="76320" y="3352680"/>
            <a:ext cx="23288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9" descr="flecha"/>
          <p:cNvPicPr/>
          <p:nvPr/>
        </p:nvPicPr>
        <p:blipFill>
          <a:blip r:embed="rId4"/>
          <a:stretch/>
        </p:blipFill>
        <p:spPr>
          <a:xfrm>
            <a:off x="76320" y="530532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"/>
          <p:cNvPicPr/>
          <p:nvPr/>
        </p:nvPicPr>
        <p:blipFill>
          <a:blip r:embed="rId5"/>
          <a:stretch/>
        </p:blipFill>
        <p:spPr>
          <a:xfrm>
            <a:off x="6019920" y="2100240"/>
            <a:ext cx="2827080" cy="186228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7"/>
          <p:cNvSpPr/>
          <p:nvPr/>
        </p:nvSpPr>
        <p:spPr>
          <a:xfrm>
            <a:off x="2666880" y="23922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mtasia 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quete de utilidades con las que registrar y editar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8"/>
          <p:cNvSpPr/>
          <p:nvPr/>
        </p:nvSpPr>
        <p:spPr>
          <a:xfrm>
            <a:off x="2590920" y="477828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ind Manag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stiona tus proyectos con mapas organizativo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9" descr=""/>
          <p:cNvPicPr/>
          <p:nvPr/>
        </p:nvPicPr>
        <p:blipFill>
          <a:blip r:embed="rId6"/>
          <a:stretch/>
        </p:blipFill>
        <p:spPr>
          <a:xfrm>
            <a:off x="6324480" y="4541760"/>
            <a:ext cx="2362320" cy="204156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12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o educativo de Herramient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1"/>
          <p:cNvSpPr/>
          <p:nvPr/>
        </p:nvSpPr>
        <p:spPr>
          <a:xfrm>
            <a:off x="2690280" y="1655640"/>
            <a:ext cx="49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camtasia-studio.softonic.co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2590920" y="1722600"/>
            <a:ext cx="632448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herramienta permite grabar cualquier ac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xplicar el funcionamiento de un programa informático. Una manera fácil, pues, de crear videotu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compartir un problema tecnológico y explicárselo a sop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2" descr="SAT 3 copia"/>
          <p:cNvPicPr/>
          <p:nvPr/>
        </p:nvPicPr>
        <p:blipFill>
          <a:blip r:embed="rId1"/>
          <a:stretch/>
        </p:blipFill>
        <p:spPr>
          <a:xfrm>
            <a:off x="0" y="838080"/>
            <a:ext cx="2301840" cy="2502000"/>
          </a:xfrm>
          <a:prstGeom prst="rect">
            <a:avLst/>
          </a:prstGeom>
          <a:ln w="0">
            <a:noFill/>
          </a:ln>
        </p:spPr>
      </p:pic>
      <p:sp>
        <p:nvSpPr>
          <p:cNvPr id="749" name="Rectangle 18"/>
          <p:cNvSpPr/>
          <p:nvPr/>
        </p:nvSpPr>
        <p:spPr>
          <a:xfrm>
            <a:off x="76320" y="3352680"/>
            <a:ext cx="222552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 CAMT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2" descr="linea"/>
          <p:cNvPicPr/>
          <p:nvPr/>
        </p:nvPicPr>
        <p:blipFill>
          <a:blip r:embed="rId2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9" descr="flecha"/>
          <p:cNvPicPr/>
          <p:nvPr/>
        </p:nvPicPr>
        <p:blipFill>
          <a:blip r:embed="rId3"/>
          <a:stretch/>
        </p:blipFill>
        <p:spPr>
          <a:xfrm>
            <a:off x="76320" y="457200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CAMT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9"/>
          <p:cNvSpPr/>
          <p:nvPr/>
        </p:nvSpPr>
        <p:spPr>
          <a:xfrm>
            <a:off x="2438280" y="5626080"/>
            <a:ext cx="65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ernández-Quijada, David; Bonet, Montse (2009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Camtasia Studio, creación de animaciones multimedia educativas. @tic. Revista d’innovació educativa. (nº 3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4"/>
          <a:stretch/>
        </p:blipFill>
        <p:spPr>
          <a:xfrm>
            <a:off x="7074000" y="6330960"/>
            <a:ext cx="16128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2590560" y="2636640"/>
            <a:ext cx="60958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rientadoresviu.wikispaces.com/OrientaTe+Videotu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tp://www.youtube.com/watch#!v=WwbrygX_Yq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2" descr="SAT 3 copia"/>
          <p:cNvPicPr/>
          <p:nvPr/>
        </p:nvPicPr>
        <p:blipFill>
          <a:blip r:embed="rId2"/>
          <a:stretch/>
        </p:blipFill>
        <p:spPr>
          <a:xfrm>
            <a:off x="0" y="838080"/>
            <a:ext cx="2301840" cy="250200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18"/>
          <p:cNvSpPr/>
          <p:nvPr/>
        </p:nvSpPr>
        <p:spPr>
          <a:xfrm>
            <a:off x="76320" y="3352680"/>
            <a:ext cx="222552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2" descr="linea"/>
          <p:cNvPicPr/>
          <p:nvPr/>
        </p:nvPicPr>
        <p:blipFill>
          <a:blip r:embed="rId3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5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CAMT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19" descr="flecha"/>
          <p:cNvPicPr/>
          <p:nvPr/>
        </p:nvPicPr>
        <p:blipFill>
          <a:blip r:embed="rId4"/>
          <a:stretch/>
        </p:blipFill>
        <p:spPr>
          <a:xfrm>
            <a:off x="76320" y="5305320"/>
            <a:ext cx="2476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2590560" y="1722240"/>
            <a:ext cx="609588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rramientas interactivas de razonamiento que ayuda a los estudiantes 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" descr="SAT 4 copia"/>
          <p:cNvPicPr/>
          <p:nvPr/>
        </p:nvPicPr>
        <p:blipFill>
          <a:blip r:embed="rId1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18"/>
          <p:cNvSpPr/>
          <p:nvPr/>
        </p:nvSpPr>
        <p:spPr>
          <a:xfrm>
            <a:off x="76320" y="3352680"/>
            <a:ext cx="220968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f5f5f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2" descr="linea"/>
          <p:cNvPicPr/>
          <p:nvPr/>
        </p:nvPicPr>
        <p:blipFill>
          <a:blip r:embed="rId2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19" descr="flecha"/>
          <p:cNvPicPr/>
          <p:nvPr/>
        </p:nvPicPr>
        <p:blipFill>
          <a:blip r:embed="rId3"/>
          <a:stretch/>
        </p:blipFill>
        <p:spPr>
          <a:xfrm>
            <a:off x="76320" y="4848120"/>
            <a:ext cx="247680" cy="2574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8"/>
          <p:cNvSpPr/>
          <p:nvPr/>
        </p:nvSpPr>
        <p:spPr>
          <a:xfrm>
            <a:off x="2590920" y="260208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denar y prioriza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lementos de un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rui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rgumentos bien razo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os factores que influyen o impactan un problema o situación y a comprender cómo esos factores interactúan unos con otros en relaciones de causa-efec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ualiz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ediante “mapas “men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8"/>
          <p:cNvSpPr/>
          <p:nvPr/>
        </p:nvSpPr>
        <p:spPr>
          <a:xfrm>
            <a:off x="76320" y="3352680"/>
            <a:ext cx="23619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Uso educativ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Herramie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Tahoma"/>
              </a:rPr>
              <a:t>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1. Introdu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95000"/>
              </a:lnSpc>
              <a:buClr>
                <a:srgbClr val="5f5f5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984807"/>
                </a:solidFill>
                <a:latin typeface="Arial"/>
              </a:rPr>
              <a:t>2. Presentacion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2" descr="linea"/>
          <p:cNvPicPr/>
          <p:nvPr/>
        </p:nvPicPr>
        <p:blipFill>
          <a:blip r:embed="rId1"/>
          <a:stretch/>
        </p:blipFill>
        <p:spPr>
          <a:xfrm>
            <a:off x="2438280" y="1268280"/>
            <a:ext cx="9720" cy="491508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6"/>
          <p:cNvSpPr/>
          <p:nvPr/>
        </p:nvSpPr>
        <p:spPr>
          <a:xfrm>
            <a:off x="3809880" y="1084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14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erramienta MIND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SAT 4 copia"/>
          <p:cNvPicPr/>
          <p:nvPr/>
        </p:nvPicPr>
        <p:blipFill>
          <a:blip r:embed="rId2"/>
          <a:stretch/>
        </p:blipFill>
        <p:spPr>
          <a:xfrm>
            <a:off x="0" y="692280"/>
            <a:ext cx="2584440" cy="2808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9" descr="flecha"/>
          <p:cNvPicPr/>
          <p:nvPr/>
        </p:nvPicPr>
        <p:blipFill>
          <a:blip r:embed="rId3"/>
          <a:stretch/>
        </p:blipFill>
        <p:spPr>
          <a:xfrm>
            <a:off x="76320" y="5229360"/>
            <a:ext cx="247680" cy="25704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10"/>
          <p:cNvSpPr/>
          <p:nvPr/>
        </p:nvSpPr>
        <p:spPr>
          <a:xfrm>
            <a:off x="2584440" y="1477800"/>
            <a:ext cx="655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imagen vale más que mil palabras y visibilizar pensamientos e ideas para compartirlos, es el primer paso construir conoc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12" descr="taconfta.gif"/>
          <p:cNvPicPr/>
          <p:nvPr/>
        </p:nvPicPr>
        <p:blipFill>
          <a:blip r:embed="rId4"/>
          <a:stretch/>
        </p:blipFill>
        <p:spPr>
          <a:xfrm>
            <a:off x="2448000" y="2971800"/>
            <a:ext cx="6543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6:13:13Z</dcterms:created>
  <dc:creator>Coaching PD</dc:creator>
  <dc:description/>
  <dc:language>en-US</dc:language>
  <cp:lastModifiedBy>Coaching PD</cp:lastModifiedBy>
  <dcterms:modified xsi:type="dcterms:W3CDTF">2010-10-20T16:35:42Z</dcterms:modified>
  <cp:revision>95</cp:revision>
  <dc:subject/>
  <dc:title>¿Qué aportan las NTIC a la Educación?</dc:title>
</cp:coreProperties>
</file>