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0421C-989E-4DD7-963A-CC4DACF2F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5969F-F801-4E12-AFF0-6279FEFB04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85268-5650-4D69-95E1-35EBC6B89B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03D8-11DB-452F-8FB6-FE33F73BC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EC8F-A632-4BB8-9A60-C1CC04896E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E3573A-8BAA-489D-ABE9-8AB0FBF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7AE6CF-8887-42F9-A06B-FDB71EE7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4FD260-E509-4051-BA19-953C2993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9C0172-98C6-4AB2-96E8-69286CC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84A23F-52B2-4698-A576-17C75B41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AFB603-28AF-4632-9952-2F8B35F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21DEB-D8DF-4775-B3F6-2D5F91CB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8696C-3E30-44D2-94C3-69741797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C235A7-5DDB-470C-B00E-F6FFB022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EC6EB-3F48-4075-A520-E6CC69DB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478C-D0D0-4426-8540-636FD5EA925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F7481-91C3-43F2-AC54-9D5B957A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B155FB-A45A-4DE8-8E54-43925A63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19247-CE47-4659-9C2C-2C9659B4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5D4585-ED0E-41AF-81F2-226C6E19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940B3-5AC8-4F1D-8C77-E4744B90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B064F-7269-4A48-9F17-56E839B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EA6167-0C33-43C1-99C1-0578F5C0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247218-B449-4687-8723-1B611579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A97536-90C1-4F42-8FF5-7D9BF03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D794D0-A487-43AA-B1AD-F69DF987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3B18-759C-4DA3-82B0-7C1C5DD14E4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DA591B-5FEA-4BAF-9CF7-A5CA8CB7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416E04-0F5F-42A5-A001-E0A476D8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7D8029-382C-456E-8B5A-9C1DB26E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130D50-CBB7-43E9-B459-ABC226A9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2E9827-AC33-4304-9EA9-6E2C2124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6AD029-2409-443C-B351-74756CB8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ED44CA-ABE2-41CE-9557-DA057263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714E7C-99CA-42DE-ADE2-927F046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740E18-3168-4B30-9F1B-27CD4727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1950EA-FD5C-4CB2-B045-D6EB2FD6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3A347-C884-4FE2-B77B-FA88404065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DBCEED-BAE0-4A44-8850-B2A30ADF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59F49E-749B-48F3-82DA-5A8DA18D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10533D-AA29-4EDE-9729-C1CBCE48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83509A-3E67-445B-96A1-D3EDFB61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1B3413-6E59-497E-8ED2-92FBA035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73B1F6-D687-4048-81EF-AACA9BDD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F3B74E-9041-44EF-AE90-A36942F1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FA4AFD-F6B6-415F-B337-C7BE5390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6E4828-2F0D-4A40-A36B-ED88BE01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0133E6-30CB-4BBF-A8F9-6A9BB7DC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865BE-8547-4CA6-806E-DE96435A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11BC9B-88DF-4866-BD68-7C0753F4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BF3005-9F3D-4D0F-BB93-8003ECAD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365E70-C367-4B7C-97B2-8B65923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658A32-D6B9-45E5-BA83-44942AA0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4D4075-96C4-4EA6-BF55-807AD56D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7E8A1-3CA4-40B8-81FB-9068396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467BD-2AE4-4A8A-833A-9426784D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6690E-18E0-4B2C-BC53-D259E71C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40CFE-9E81-4327-B810-AFF84706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F67F9-66D7-41A3-BAD4-11EBB0F3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15F7-D3CE-47A2-ADEA-C2B478252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35C13-CB63-454C-BA40-8FDBAA78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0F36A-4667-46DE-8416-A0EC7620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5BDDE-93A6-4DC8-821C-D4237E8D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3BB03-C48A-4489-B340-3009464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434F6-C6D0-4D4D-956C-C201459A6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6466F-FCB6-4B0A-9EF4-938761C58B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18A8C-3896-49E1-8400-4371899E82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D582B-9F50-4F62-9891-15F18064DB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E62CB-34BE-4173-BFC0-14BF8C077A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528F0-C223-4775-831C-D1AFB6837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8EDD-67F4-402B-ADCD-6343170123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2F720-7F1F-4D38-8635-321B51463D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221F8-230C-419E-8C8A-CCE41CDE61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EA8F5-E66C-4189-948C-3D1F0F7448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3A2A2-3F75-4296-B77A-D628E86EFC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214EE-CA3F-4FE1-944B-147F53A6F4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0BF3A-3B52-4EE8-8611-A1014C0AC0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A4E07-5435-4BC9-8309-669E505583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8C2B-5241-425C-9A82-03CC0B64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E33C-97CD-4244-B249-9DB4390C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3F8C-14C2-4BE5-9A1F-858FD5F9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C92D-8ACE-4249-AE43-3283852C7F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CD03-E7FA-4AE3-9CA8-396FF6DE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79D7-0E9E-4939-B94A-2BE4A796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CDB9-E430-4983-8689-1FE632AB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81DF-030A-4975-AF7E-3A99F5B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0199-08BE-449A-AB72-B0A3022B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6DDE-6CB1-4DEF-A5D9-A9F442A1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7D25-C692-421A-8A95-FC3F2A4D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7B1A-1100-411E-9345-A9C8971B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2D9B-78FD-41E6-91FA-198ABCB5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6564-1754-4086-9822-92F474AB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4C85-FA46-4CC9-825C-594EECC8B9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D520-5050-40EF-8B26-E80C3902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D8DCE-3606-4C8B-BAE1-AA771DE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C1E96-79CF-4533-898B-B8268F0C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75E97-2CA3-4F73-8A2A-E4822A38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BF304-3DB0-4DA1-98AD-147FE4AB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C1782-404F-43FB-A20F-F4F74B67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EFC3-6B85-4F98-8B4F-A99C6E6A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BAAD-63F5-4543-8A52-28BFC21D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F85E7-4484-4EF0-A71A-306683D3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E536-7BE9-460B-A455-F1B834A4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46AD-C27E-4517-9CF2-35A13BA828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FFF3B-5333-48D4-AFAE-A2991B25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6F45A-9218-4D8D-87D7-938D0536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55239-FCF1-4C36-8FCA-4CB799F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B08ED-BB37-4F40-98DD-CC219EE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A88D-6AE5-4F7F-BBFD-246B602A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0141-9B62-462F-9E35-F73D97C8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8088-5C35-4349-9A06-4910AF21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E136-23BB-45F9-84B2-FAD79C1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5036A-7083-4D8B-B366-AD7839B7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F4E68-3D71-4B87-AA9C-C9E6102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FAF4-546D-48DA-A083-39A144C0B8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DC38E-401F-4AA7-98C4-96532C8D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374C6-FC2B-48FD-8DE4-61E74229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C00F1-581E-48B0-AF0D-4D63C8D0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5B7C8-096A-43EF-BCCE-37687698B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505F9-0D1A-4380-A3C5-B8BB8CF4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B2BBD-4CA0-4107-9611-0B74C702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8CA0B-514C-46D2-A148-B207C965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D3962-2FEB-454B-84FD-17E5687A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0A0A7-2751-4796-BA30-2E8E774E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1E39B-A80A-423C-B232-115C78D8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9549-92EE-4461-801E-A36B4352FB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801AC-6F7E-446D-A8B2-03294C5B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88FD4-4715-4A43-901E-146ACB49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4694E-82C3-4095-9FBB-FA356B81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CE9A8-C73D-4F8E-9A3A-FF8B9DEE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215B7-ACB8-4F16-95CA-2413D82A92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4F12D-E341-42A4-8F1A-DAE191F3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5CE07-AE94-4736-95E3-71C4875E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E21B4-CB03-4D77-BC3A-C2D1D789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80C06-8F4B-41CF-93DD-487EA256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42BC6-BE3E-4EF5-B752-9891FDE1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35F8-8512-4B3D-B01D-6D993C758D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32551-8F9E-406F-BBBA-5C4C09C4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F2C65-A67F-44B0-A793-EB536CB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5FA75-5A9B-4CC6-956C-FFF6E5F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49459-A5EB-44D0-A69A-52B0351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A1E04-CE83-4E11-A724-D8C6B4D7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E1481-391E-4492-AFEB-B4325850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86D2E-4AF5-4B5F-A843-87F785DE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7C8026-CEB1-4B52-9D4A-A59FBB2F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EB0AA-2F21-4887-B865-7DBA54AD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7149F1-BE60-4A4B-83C6-ED3A3C52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2A42A-9118-4FE1-84B0-C24B39C2862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3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3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4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4528A-D6CB-417F-BD4E-AFC53A50AE2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5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6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1C5F2-19DB-473E-B7FC-94F5B69E2BA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8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9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9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8BAA0-FB44-4672-9B97-8FA280AB525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C1F24-2173-491A-97DD-09952E8D8B58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644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0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54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1588C-4A0D-4EE6-82CE-442753515C6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14817-13F4-45C0-A816-8B788DB4592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1905120" y="64008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6E880-FEAA-47FF-9609-041EA2566A9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4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41FB6-0A94-4737-A287-863C38A6BF3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70517-9C9E-475E-9F0E-2D3509C6C2F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057400" y="228600"/>
            <a:ext cx="2089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31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033640" y="112680"/>
            <a:ext cx="33004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3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AE81A-2FE6-4095-BE7B-011BD3EB19C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6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8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8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9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B2834-0AA3-4BE8-8718-1A2EDF35D23C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96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4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A2611-15C9-41A2-9AA7-FC5F09491AA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81955-B5F1-4739-9110-C6DE8E1B9B5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24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25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25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9742E-ADF3-4CCE-B917-A053EC04867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B4462-7545-48A4-B8D6-48224A5B8AB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02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08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12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882A1-E64A-4B50-985F-F9CD391F810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93798-8F2F-4EFE-9126-95DE03C34EA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E2F09-10C5-411A-A666-203698FF9C9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17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089A2-ADA8-4062-AC95-049F2BC3784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C0B24-13F9-4F3A-809A-68E1633E073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C52D2-A0B9-4293-803C-234823A4D58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73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79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83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B5DBD-2E4B-4429-A1FE-E28DE63C7C2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22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23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83E29-56DE-4529-A23D-3B5A56B7D3D8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gaupload.com/?d=4XP6DWCZ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hyperlink" Target="http://camtasia-studio.softonic.com/" TargetMode="Externa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entadoresviu.wikispaces.com/OrientaTe+Videotutoriales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984807"/>
                </a:solidFill>
                <a:latin typeface="Arial"/>
                <a:ea typeface="Arial"/>
              </a:rPr>
              <a:t>¿Qué aportan las NTIC a la Educació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304560" y="337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Presentación de herramientas Digitales para la Educ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Actividad Bloque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2052720"/>
          </a:xfrm>
          <a:prstGeom prst="rect">
            <a:avLst/>
          </a:prstGeom>
          <a:ln w="0">
            <a:noFill/>
          </a:ln>
        </p:spPr>
      </p:pic>
      <p:sp>
        <p:nvSpPr>
          <p:cNvPr id="707" name="Subtitle 2"/>
          <p:cNvSpPr/>
          <p:nvPr/>
        </p:nvSpPr>
        <p:spPr>
          <a:xfrm>
            <a:off x="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Trabajo Elabora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Amalia Revuelta Cand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Nuevo Logo.jpg"/>
          <p:cNvPicPr/>
          <p:nvPr/>
        </p:nvPicPr>
        <p:blipFill>
          <a:blip r:embed="rId2"/>
          <a:stretch/>
        </p:blipFill>
        <p:spPr>
          <a:xfrm>
            <a:off x="6261120" y="4260960"/>
            <a:ext cx="2197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2590560" y="5785920"/>
            <a:ext cx="60958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ttp://www.eduteka.org/AprendizajeHerramientasDigitales.ph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81" name="Text Placeholder 1"/>
          <p:cNvSpPr/>
          <p:nvPr/>
        </p:nvSpPr>
        <p:spPr>
          <a:xfrm>
            <a:off x="2743200" y="2038320"/>
            <a:ext cx="60958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orientadoresviu.wikispaces.com/OrientaTe+Videotu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UnqR60B_lNI&amp;feature=player_embed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0" y="83808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336699"/>
                </a:solidFill>
                <a:latin typeface="Arial"/>
              </a:rPr>
              <a:t>¡Felicidades por tu Participació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"/>
          <p:cNvGrpSpPr/>
          <p:nvPr/>
        </p:nvGrpSpPr>
        <p:grpSpPr>
          <a:xfrm>
            <a:off x="1447920" y="1600200"/>
            <a:ext cx="6476760" cy="5029200"/>
            <a:chOff x="1447920" y="1600200"/>
            <a:chExt cx="6476760" cy="502920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47676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Box 7"/>
            <p:cNvSpPr/>
            <p:nvPr/>
          </p:nvSpPr>
          <p:spPr>
            <a:xfrm>
              <a:off x="2044800" y="1752480"/>
              <a:ext cx="420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¿Sabes qué creo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8"/>
            <p:cNvSpPr/>
            <p:nvPr/>
          </p:nvSpPr>
          <p:spPr>
            <a:xfrm>
              <a:off x="1905120" y="2065320"/>
              <a:ext cx="50292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QUE TANTA HERRAMIENTA TIC, TANTA TECNOLOGÍA Y TANTA WIKI,.. VA A ACABAR CON 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2044800" y="2819160"/>
              <a:ext cx="549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FAMILIA !!!!!!!!!!!!!!!!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"/>
            <p:cNvSpPr/>
            <p:nvPr/>
          </p:nvSpPr>
          <p:spPr>
            <a:xfrm>
              <a:off x="4419720" y="4038480"/>
              <a:ext cx="3124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CON MI FACEBOOK DE LA VI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0" descr="Pizarra 1.jpg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10080"/>
          </a:xfrm>
          <a:prstGeom prst="rect">
            <a:avLst/>
          </a:prstGeom>
          <a:ln w="0">
            <a:noFill/>
          </a:ln>
        </p:spPr>
      </p:pic>
      <p:sp>
        <p:nvSpPr>
          <p:cNvPr id="710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1760" y="1645920"/>
            <a:ext cx="60958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y utilizar las herramientas tecnológicas más comunes y sus posibilidades de aplicación en el contexto educativo adquiriendo una postura personal rigurosa, crítica e innovadora que enriquezca su experiencia y práctica edu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iciarse en el diseño y producción de contenidos mediante software y webware como recurso form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825880" y="866520"/>
            <a:ext cx="2438280" cy="533160"/>
          </a:xfrm>
          <a:prstGeom prst="rect">
            <a:avLst/>
          </a:prstGeom>
          <a:solidFill>
            <a:srgbClr val="376092">
              <a:alpha val="53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f2f2f2"/>
                </a:solidFill>
                <a:latin typeface="Calibri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457200" y="503712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tiempo es uno de los bienes más preciosos y hay que ser capaz de aprovecharlo... Cualquier sistema que nos ayude a optimizarlo, y más aún si requiere poco esfuerzo, hay que considerarlo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Oval 13"/>
          <p:cNvSpPr/>
          <p:nvPr/>
        </p:nvSpPr>
        <p:spPr>
          <a:xfrm>
            <a:off x="4052880" y="2182680"/>
            <a:ext cx="990720" cy="9907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2652840" y="1103400"/>
            <a:ext cx="5043240" cy="4968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51080" indent="-1351080" algn="r">
              <a:buClr>
                <a:srgbClr val="ffff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Índice de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5"/>
          <p:cNvSpPr/>
          <p:nvPr/>
        </p:nvSpPr>
        <p:spPr>
          <a:xfrm>
            <a:off x="1295280" y="2133720"/>
            <a:ext cx="990720" cy="990360"/>
          </a:xfrm>
          <a:prstGeom prst="ellipse">
            <a:avLst/>
          </a:prstGeom>
          <a:noFill/>
          <a:ln w="76320">
            <a:solidFill>
              <a:srgbClr val="984807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6"/>
          <p:cNvSpPr/>
          <p:nvPr/>
        </p:nvSpPr>
        <p:spPr>
          <a:xfrm>
            <a:off x="6865920" y="2195640"/>
            <a:ext cx="990720" cy="9889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554040" y="3735360"/>
            <a:ext cx="2417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9"/>
          <p:cNvSpPr/>
          <p:nvPr/>
        </p:nvSpPr>
        <p:spPr>
          <a:xfrm>
            <a:off x="625320" y="3176640"/>
            <a:ext cx="2346480" cy="49860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Uso educativ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s Dig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0"/>
          <p:cNvSpPr/>
          <p:nvPr/>
        </p:nvSpPr>
        <p:spPr>
          <a:xfrm>
            <a:off x="3483000" y="3220920"/>
            <a:ext cx="2232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CAMT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1"/>
          <p:cNvSpPr/>
          <p:nvPr/>
        </p:nvSpPr>
        <p:spPr>
          <a:xfrm>
            <a:off x="6256440" y="3208320"/>
            <a:ext cx="2286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Mind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3"/>
          <p:cNvSpPr/>
          <p:nvPr/>
        </p:nvSpPr>
        <p:spPr>
          <a:xfrm>
            <a:off x="3483000" y="3701880"/>
            <a:ext cx="2232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3"/>
          <p:cNvSpPr/>
          <p:nvPr/>
        </p:nvSpPr>
        <p:spPr>
          <a:xfrm>
            <a:off x="6324480" y="3733920"/>
            <a:ext cx="22179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informáticas cumplen ciertas funciones en los proceso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SAT 2 copia"/>
          <p:cNvPicPr/>
          <p:nvPr/>
        </p:nvPicPr>
        <p:blipFill>
          <a:blip r:embed="rId1"/>
          <a:stretch/>
        </p:blipFill>
        <p:spPr>
          <a:xfrm>
            <a:off x="19080" y="838080"/>
            <a:ext cx="2386080" cy="2592360"/>
          </a:xfrm>
          <a:prstGeom prst="rect">
            <a:avLst/>
          </a:prstGeom>
          <a:ln w="0">
            <a:noFill/>
          </a:ln>
        </p:spPr>
      </p:pic>
      <p:grpSp>
        <p:nvGrpSpPr>
          <p:cNvPr id="728" name="Freeform 8"/>
          <p:cNvGrpSpPr/>
          <p:nvPr/>
        </p:nvGrpSpPr>
        <p:grpSpPr>
          <a:xfrm>
            <a:off x="2548080" y="3200400"/>
            <a:ext cx="2517480" cy="2136600"/>
            <a:chOff x="2548080" y="3200400"/>
            <a:chExt cx="2517480" cy="2136600"/>
          </a:xfrm>
        </p:grpSpPr>
        <p:pic>
          <p:nvPicPr>
            <p:cNvPr id="729" name="Freeform 8" descr=""/>
            <p:cNvPicPr/>
            <p:nvPr/>
          </p:nvPicPr>
          <p:blipFill>
            <a:blip r:embed="rId2"/>
            <a:stretch/>
          </p:blipFill>
          <p:spPr>
            <a:xfrm>
              <a:off x="2548080" y="3200400"/>
              <a:ext cx="251748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2666880" y="3322800"/>
              <a:ext cx="2286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ar qué queremos Enseñar con la herramienta: Aprender, Investigar, Colaborar, Tomar Decisiones, et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9"/>
          <p:cNvSpPr/>
          <p:nvPr/>
        </p:nvSpPr>
        <p:spPr>
          <a:xfrm>
            <a:off x="6172200" y="30481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a vez identificado lo que queremos enseñar debemos seleccionar, dentro del grupo de herramientas y aplicaciones disponibles, cuál se ajusta mejor al context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us 11"/>
          <p:cNvSpPr/>
          <p:nvPr/>
        </p:nvSpPr>
        <p:spPr>
          <a:xfrm>
            <a:off x="4800600" y="3352680"/>
            <a:ext cx="1600200" cy="16416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9" descr="flecha"/>
          <p:cNvPicPr/>
          <p:nvPr/>
        </p:nvPicPr>
        <p:blipFill>
          <a:blip r:embed="rId4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904760" y="406224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megaupload.com/?d=4XP6DWCZ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SAT 2 copia"/>
          <p:cNvPicPr/>
          <p:nvPr/>
        </p:nvPicPr>
        <p:blipFill>
          <a:blip r:embed="rId2"/>
          <a:stretch/>
        </p:blipFill>
        <p:spPr>
          <a:xfrm>
            <a:off x="19080" y="692280"/>
            <a:ext cx="2386080" cy="25923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5"/>
          <a:stretch/>
        </p:blipFill>
        <p:spPr>
          <a:xfrm>
            <a:off x="6019920" y="2100240"/>
            <a:ext cx="2827080" cy="186228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7"/>
          <p:cNvSpPr/>
          <p:nvPr/>
        </p:nvSpPr>
        <p:spPr>
          <a:xfrm>
            <a:off x="2666880" y="23922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tasia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 de utilidades con las que registrar y editar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8"/>
          <p:cNvSpPr/>
          <p:nvPr/>
        </p:nvSpPr>
        <p:spPr>
          <a:xfrm>
            <a:off x="2590920" y="47782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d Manag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stiona tus proyectos con mapas organizativo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9" descr=""/>
          <p:cNvPicPr/>
          <p:nvPr/>
        </p:nvPicPr>
        <p:blipFill>
          <a:blip r:embed="rId6"/>
          <a:stretch/>
        </p:blipFill>
        <p:spPr>
          <a:xfrm>
            <a:off x="6324480" y="4541760"/>
            <a:ext cx="2362320" cy="204156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2690280" y="165564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camtasia-studio.softonic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2590920" y="1722600"/>
            <a:ext cx="6324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herramienta permite grabar cualquier a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xplicar el funcionamiento de un programa informático. Una manera fácil, pues, de crear videotu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ompartir un problema tecnológico y explicárselo a sop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" descr="SAT 3 copia"/>
          <p:cNvPicPr/>
          <p:nvPr/>
        </p:nvPicPr>
        <p:blipFill>
          <a:blip r:embed="rId1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49" name="Rectangle 18"/>
          <p:cNvSpPr/>
          <p:nvPr/>
        </p:nvSpPr>
        <p:spPr>
          <a:xfrm>
            <a:off x="76320" y="3352680"/>
            <a:ext cx="222552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 CAMT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9" descr="flecha"/>
          <p:cNvPicPr/>
          <p:nvPr/>
        </p:nvPicPr>
        <p:blipFill>
          <a:blip r:embed="rId3"/>
          <a:stretch/>
        </p:blipFill>
        <p:spPr>
          <a:xfrm>
            <a:off x="76320" y="457200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2438280" y="562608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ernández-Quijada, David; Bonet, Montse (2009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amtasia Studio, creación de animaciones multimedia educativas. @tic. Revista d’innovació educativa. (nº 3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4"/>
          <a:stretch/>
        </p:blipFill>
        <p:spPr>
          <a:xfrm>
            <a:off x="7074000" y="6330960"/>
            <a:ext cx="16128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2590560" y="2636640"/>
            <a:ext cx="60958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rientadoresviu.wikispaces.com/OrientaTe+Videotu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youtube.com/watch#!v=WwbrygX_Yq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SAT 3 copia"/>
          <p:cNvPicPr/>
          <p:nvPr/>
        </p:nvPicPr>
        <p:blipFill>
          <a:blip r:embed="rId2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8"/>
          <p:cNvSpPr/>
          <p:nvPr/>
        </p:nvSpPr>
        <p:spPr>
          <a:xfrm>
            <a:off x="76320" y="3352680"/>
            <a:ext cx="222552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5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s interactivas de razonamiento que ayuda a los estudiantes 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SAT 4 copia"/>
          <p:cNvPicPr/>
          <p:nvPr/>
        </p:nvPicPr>
        <p:blipFill>
          <a:blip r:embed="rId1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8"/>
          <p:cNvSpPr/>
          <p:nvPr/>
        </p:nvSpPr>
        <p:spPr>
          <a:xfrm>
            <a:off x="76320" y="3352680"/>
            <a:ext cx="22096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9" descr="flecha"/>
          <p:cNvPicPr/>
          <p:nvPr/>
        </p:nvPicPr>
        <p:blipFill>
          <a:blip r:embed="rId3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8"/>
          <p:cNvSpPr/>
          <p:nvPr/>
        </p:nvSpPr>
        <p:spPr>
          <a:xfrm>
            <a:off x="2590920" y="26020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denar y prioriz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ru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rgumentos bien raz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factores que influyen o impactan un problema o situación y a comprender cómo esos factores interactúan unos con otros en relaciones de causa-efec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ual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diante “mapas “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10"/>
          <p:cNvSpPr/>
          <p:nvPr/>
        </p:nvSpPr>
        <p:spPr>
          <a:xfrm>
            <a:off x="2584440" y="1477800"/>
            <a:ext cx="65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imagen vale más que mil palabras y visibilizar pensamientos e ideas para compartirlos, es el primer paso construir cono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2" descr="taconfta.gif"/>
          <p:cNvPicPr/>
          <p:nvPr/>
        </p:nvPicPr>
        <p:blipFill>
          <a:blip r:embed="rId4"/>
          <a:stretch/>
        </p:blipFill>
        <p:spPr>
          <a:xfrm>
            <a:off x="2448000" y="2971800"/>
            <a:ext cx="6543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13:13Z</dcterms:created>
  <dc:creator>Coaching PD</dc:creator>
  <dc:description/>
  <dc:language>en-US</dc:language>
  <cp:lastModifiedBy>Coaching PD</cp:lastModifiedBy>
  <dcterms:modified xsi:type="dcterms:W3CDTF">2010-10-20T16:35:42Z</dcterms:modified>
  <cp:revision>95</cp:revision>
  <dc:subject/>
  <dc:title>¿Qué aportan las NTIC a la Educación?</dc:title>
</cp:coreProperties>
</file>